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670-C443-4BC1-B612-A740EB7A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CF9-39D8-428E-87D2-1D62E1D0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BD5-88AF-47F8-92F4-5CC3CADA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6F6-C408-491C-9A64-685A9FF7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2E1-AFE6-48DD-91A1-ABE3EB87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3E7B-01C2-4B1A-BEA1-0EFF57C0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31C-63EC-4DB9-A0FB-4483D810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A6DD-6AFB-4894-84F9-03BBF4A8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DC8-B232-4704-9255-83E12454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7369-5443-4B05-9FA1-7EEAB63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45C-99EF-454B-8340-512FB13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23C-DCFC-4E0D-A386-807D4AF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C8D6B-FF45-479C-AB05-51D5060F01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A10C4-3BFA-43BC-9178-5417D19F045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269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269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269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269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269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269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269-3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269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269-후렴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09-24T08:03:44Z</dcterms:modified>
  <cp:revision>5</cp:revision>
  <dc:subject/>
  <dc:title>슬라이드 1</dc:title>
</cp:coreProperties>
</file>