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553-62E0-466B-850E-479F59D5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ED4-543B-4E91-9DA1-694C6756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2D0-8942-4039-9815-0260F150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E42-9FB1-4C57-8F19-45E35FD4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00C-6837-469A-81E4-1DFA335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B1C-EE27-458F-B652-5D791527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3E9-B955-4BEA-A58D-61F8917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4C6-900D-4738-BC2D-85DE535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6E0-AC98-460D-A2DC-9F6BB250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C87-BD41-49E1-BD5E-1E7F6165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D81-5026-41DD-BB4F-69F9405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2A2-0800-4658-9B88-4DAB584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84623-00C3-4445-83D0-75700B3453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9D7BD-3C2B-41E9-AA4A-37EA8A5F38B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269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269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269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269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269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269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269-3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269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269-후렴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4T08:03:44Z</dcterms:modified>
  <cp:revision>5</cp:revision>
  <dc:subject/>
  <dc:title>슬라이드 1</dc:title>
</cp:coreProperties>
</file>