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3BCE-E466-4289-B579-3118DD79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CBCC-D3E5-45C6-AA26-377A19B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59C9-41E9-4966-AA4E-FC8C6AF7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BDC7-9E9A-4394-87DA-F513BB49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01C-140B-4005-B001-E45DF953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9FCE-8198-499E-82BF-F8006AFD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0CD-CB69-498A-AAE0-E064E855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FED-8F35-4034-8FAB-021549C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195-C35B-40A9-89DC-6FC4FA1D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6282-DA33-4D44-8AD8-598284CE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B4C0-6791-4908-9285-95A577D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1622-1D3F-4D9B-A1B6-DFB17CE6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79B7-5934-4D77-82B6-A495506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A679-888C-45FE-923E-B523737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24E-CB75-4F68-B11E-E3E6761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827-8DA7-4B17-ACA3-A63D3AB1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F688-844C-4E1A-860D-D97E7A77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784B-787F-4107-8452-316EC445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3B70-BCDE-4801-9349-830466E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2A31-5C72-4A32-AD57-FAC53C8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AB4F-73EA-435C-82BE-CEE60A3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3B2F-3A33-4F8D-B457-6051035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8626-7696-4288-A86E-83FB333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8CBE-BED5-4455-815A-EF63952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4BB6-2908-47BE-9A94-0BD31F2BC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D2D-7155-45CD-8127-9EB82AF9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NDO CON ARREG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203480"/>
            <a:ext cx="8458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cuenta con los arreglos siete y 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icar el primer elemento del arreglo siete con el primer elemento del arreglo ocho y así sucesivamente. Almacenar el resultado en otro arreglo y muéstr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z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ejercicios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atriz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siete = {7,17,27,37,47,57,67,77,87,97,107};   int[] ocho  = {8,18,28,38,48,58,68,98,108,118,198};   ..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43000"/>
            <a:ext cx="79250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na cadena es una secuencia de caract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librería String (o clase String) se usa para definir todas las cadenas en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adenas se delimitan con comillas dob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Hola Mundo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amara = "Camar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uces = camara +" Acci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vacio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cion de cade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3000"/>
            <a:ext cx="8610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También se puede usar constructores para construir cadenas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a const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Empleado = new String("R. Daneel Olivaw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a cadena va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inicio = new Str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iando una cade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opiaEmpleado = new String(nombreEmplead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 arreglo de ch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[] vocales = {'a','e','i','o','u'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adenaVocales = new String(vocales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oncatenacion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Para concatenar cadenas puede usar lo siguient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Usando el operador 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Nombre = " + nombreEmpleado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ede concatenar primitivas y cade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dad = 22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Edad = " + eda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diante la función conca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 = "Elijah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apellidos = "Baley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Completo = nombre.concat(apellidos)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ones con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884160"/>
            <a:ext cx="7925040" cy="57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ngitud de una cad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Hari Seld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longitud = nombre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bicar un carácter mediante un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Gladia Delmarr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c = nombre.charA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xtraer una subcad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0123456789012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Blissenobiarell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1234567890123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ubCadena = nombre.substring(2,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ones con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143000"/>
            <a:ext cx="79250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onvertir a mayúsculas o minús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titulo = "Segunda Fundaci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ayusculas = titulo.toUpperC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inusculas = titulo.toLowerC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SEGUNDA FUN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segunda fun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liminar espacios del inicio y el final de la cad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utor = " Isaac Asimov    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resaltar = "*"+autor.trim()+"*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*Isaac Asimov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bicar una subcad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143000"/>
            <a:ext cx="792504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bicar una subcadena desde una ub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 0123456789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lcalde = "Salvor Hardi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1 = alcalde.indexOf("v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2 = alcalde.indexOf("r",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3 = alcalde.indexOf("h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0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rando dos cadena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ssword = "FGHPUW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password.equals("fgHPUw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Correcto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rror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ssword = "FGHPUW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password.equalsIgnoreCase("fgHPUw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Correcto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rror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Correc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rando regiones de una cade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447920"/>
            <a:ext cx="8153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url = "http://www.uni.edu.p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url.endsWith(".pe"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Pagina Naciona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Pagina Extranjer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rametro = "ip = 192.100.51.2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parametro.startsWith("ip"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La direccion "+paramet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l parámetro no es una i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siones co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cade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066680"/>
            <a:ext cx="815364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Obtener cadenas desde las primitivas. </a:t>
            </a:r>
            <a:br>
              <a:rPr sz="2000"/>
            </a:b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n funciones de la librería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even = String.valueOf(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unoPuntoUno = String.valueOf(1.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pi = 3.14159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iString = String.valueOf(p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Obtener primitivas desde las cadenas. </a:t>
            </a:r>
            <a:br>
              <a:rPr sz="2000"/>
            </a:b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Para esto se utilizan funciones de las librerías Integer y Fl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lfa = "1977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lfaInteger =  Integer.parseInt(alf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beta = "19.77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 betaFloat =  Float.parseFloat(beta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 de arregl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arreglo es una colección de variables del mismo t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ongitud de un arreglo es fijo cuando se cre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2666880"/>
            <a:ext cx="8152560" cy="1474560"/>
            <a:chOff x="685800" y="2666880"/>
            <a:chExt cx="8152560" cy="147456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2666880"/>
              <a:ext cx="4076280" cy="1396080"/>
              <a:chOff x="685800" y="2666880"/>
              <a:chExt cx="4076280" cy="1396080"/>
            </a:xfrm>
          </p:grpSpPr>
          <p:sp>
            <p:nvSpPr>
              <p:cNvPr id="99" name=""/>
              <p:cNvSpPr/>
              <p:nvPr/>
            </p:nvSpPr>
            <p:spPr>
              <a:xfrm>
                <a:off x="685800" y="266688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0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0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1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302472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1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1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800" y="338292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2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2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800" y="374148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3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3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762440" y="2666880"/>
              <a:ext cx="4075920" cy="1474560"/>
              <a:chOff x="4762440" y="2666880"/>
              <a:chExt cx="4075920" cy="1474560"/>
            </a:xfrm>
          </p:grpSpPr>
          <p:sp>
            <p:nvSpPr>
              <p:cNvPr id="104" name=""/>
              <p:cNvSpPr/>
              <p:nvPr/>
            </p:nvSpPr>
            <p:spPr>
              <a:xfrm>
                <a:off x="4762440" y="2666880"/>
                <a:ext cx="4075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762440" y="2709720"/>
                <a:ext cx="4075200" cy="1431720"/>
                <a:chOff x="4762440" y="2709720"/>
                <a:chExt cx="4075200" cy="14317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4762440" y="2709720"/>
                  <a:ext cx="4075200" cy="357480"/>
                  <a:chOff x="4762440" y="2709720"/>
                  <a:chExt cx="4075200" cy="357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4827600" y="270972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4762440" y="270972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4762440" y="3067560"/>
                  <a:ext cx="4075200" cy="357480"/>
                  <a:chOff x="4762440" y="3067560"/>
                  <a:chExt cx="4075200" cy="35748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4827600" y="306756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762440" y="306756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762440" y="3425400"/>
                  <a:ext cx="4075200" cy="358200"/>
                  <a:chOff x="4762440" y="3425400"/>
                  <a:chExt cx="4075200" cy="3582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4827600" y="3425400"/>
                    <a:ext cx="3944520" cy="35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62440" y="3425400"/>
                    <a:ext cx="4075200" cy="35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762440" y="3783960"/>
                  <a:ext cx="4075200" cy="357480"/>
                  <a:chOff x="4762440" y="3783960"/>
                  <a:chExt cx="4075200" cy="3574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27600" y="378396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762440" y="378396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76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669960"/>
            <a:ext cx="815328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adena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 (String 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 = new String("Vierne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=="Viernes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spuesta 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.equals("Viernes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spuesta 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1 = 123456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tring.valueOf(num1).charAt(3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1 = "Lunes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2 = "Martes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1.concat(s2).substring(4,8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3 inicia con 2 espacios y tambien termina con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3 = "  Lunes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3.indexOf("es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3.trim().indexOf("es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reglos de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838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arreglo de cadenas también sigue los pasos de creación de arregl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920" y="1676520"/>
            <a:ext cx="8381520" cy="958320"/>
            <a:chOff x="304920" y="1676520"/>
            <a:chExt cx="8381520" cy="958320"/>
          </a:xfrm>
        </p:grpSpPr>
        <p:sp>
          <p:nvSpPr>
            <p:cNvPr id="263" name=""/>
            <p:cNvSpPr/>
            <p:nvPr/>
          </p:nvSpPr>
          <p:spPr>
            <a:xfrm>
              <a:off x="304920" y="167652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6480" y="167652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30280" y="167652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 []  categorí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199584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6480" y="199584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30280" y="199584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tegorias = new String[3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231552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iciació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6480" y="231552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0280" y="231552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tegorias[0] = "Drama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8000" y="2819520"/>
            <a:ext cx="827316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reando una arreglo de cadenas va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arreglo = new String 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 int i = 0; i &lt; arreglo.length; i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eglo[i] = new Strin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reando e iniciando un arreg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ccesando los elementos del arre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Comedia = "+ categorías[1].length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143000"/>
            <a:ext cx="84582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ual es el resultad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Infantil"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 = categorías.length –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ategorías[indice].length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 main (String [ ] args)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143000"/>
            <a:ext cx="845820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main() cuenta con un único parámetro que es un arreglo de cade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arreglo de cadenas son los parámetros de la linea de co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\&gt; java Eco Hola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Ec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ckage ejercic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c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 (String 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args.length !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Uso: java Eco Arg1 Arg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args[0] + " " + args[1]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14300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declara 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nicialmente la variable referencia un valor 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potencias; //forma mas u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otencias[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8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4800600"/>
            <a:ext cx="6247440" cy="685440"/>
            <a:chOff x="1447920" y="4800600"/>
            <a:chExt cx="6247440" cy="685440"/>
          </a:xfrm>
        </p:grpSpPr>
        <p:sp>
          <p:nvSpPr>
            <p:cNvPr id="122" name=""/>
            <p:cNvSpPr/>
            <p:nvPr/>
          </p:nvSpPr>
          <p:spPr>
            <a:xfrm>
              <a:off x="1447920" y="4800600"/>
              <a:ext cx="31262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4160" y="4800600"/>
              <a:ext cx="3121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143000"/>
            <a:ext cx="79250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crea 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requiere la longitud d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 = new int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n caso de variables primitivas se inician en 0 o fa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s primitivas no se pueden operar con el valor n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 de variables referencia se inician en nu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referencian a ningú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05120" y="4800600"/>
            <a:ext cx="4340520" cy="1386000"/>
            <a:chOff x="1905120" y="4800600"/>
            <a:chExt cx="4340520" cy="1386000"/>
          </a:xfrm>
        </p:grpSpPr>
        <p:sp>
          <p:nvSpPr>
            <p:cNvPr id="127" name=""/>
            <p:cNvSpPr/>
            <p:nvPr/>
          </p:nvSpPr>
          <p:spPr>
            <a:xfrm>
              <a:off x="1905120" y="4800600"/>
              <a:ext cx="2172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077360" y="4800600"/>
              <a:ext cx="2168280" cy="1386000"/>
              <a:chOff x="4077360" y="4800600"/>
              <a:chExt cx="2168280" cy="1386000"/>
            </a:xfrm>
          </p:grpSpPr>
          <p:sp>
            <p:nvSpPr>
              <p:cNvPr id="129" name=""/>
              <p:cNvSpPr/>
              <p:nvPr/>
            </p:nvSpPr>
            <p:spPr>
              <a:xfrm>
                <a:off x="4077360" y="4800600"/>
                <a:ext cx="2168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4077360" y="4825080"/>
                <a:ext cx="2167560" cy="1361520"/>
                <a:chOff x="4077360" y="4825080"/>
                <a:chExt cx="2167560" cy="13615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4077360" y="4825080"/>
                  <a:ext cx="2167560" cy="340200"/>
                  <a:chOff x="4077360" y="4825080"/>
                  <a:chExt cx="2167560" cy="3402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149360" y="48250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77360" y="48250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077360" y="5165280"/>
                  <a:ext cx="2167560" cy="340200"/>
                  <a:chOff x="4077360" y="5165280"/>
                  <a:chExt cx="2167560" cy="3402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149360" y="51652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077360" y="51652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077360" y="5505480"/>
                  <a:ext cx="2167560" cy="340200"/>
                  <a:chOff x="4077360" y="5505480"/>
                  <a:chExt cx="2167560" cy="3402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149360" y="55054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077360" y="55054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4077360" y="5846040"/>
                  <a:ext cx="2167560" cy="340560"/>
                  <a:chOff x="4077360" y="5846040"/>
                  <a:chExt cx="2167560" cy="340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4149360" y="5846040"/>
                    <a:ext cx="2022840" cy="34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077360" y="5846040"/>
                    <a:ext cx="2167560" cy="34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990720"/>
            <a:ext cx="7925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inicia los valores d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asignan valores elemento por 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0]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1]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2]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3] = 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arreglos pueden ser creados e iniciados al mismo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potencias = {1,2,4,8}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2320" y="4876920"/>
            <a:ext cx="3961440" cy="1447560"/>
            <a:chOff x="2362320" y="4876920"/>
            <a:chExt cx="3961440" cy="1447560"/>
          </a:xfrm>
        </p:grpSpPr>
        <p:sp>
          <p:nvSpPr>
            <p:cNvPr id="146" name=""/>
            <p:cNvSpPr/>
            <p:nvPr/>
          </p:nvSpPr>
          <p:spPr>
            <a:xfrm>
              <a:off x="2362320" y="4876920"/>
              <a:ext cx="19825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344840" y="4876920"/>
              <a:ext cx="1978920" cy="1447560"/>
              <a:chOff x="4344840" y="4876920"/>
              <a:chExt cx="1978920" cy="1447560"/>
            </a:xfrm>
          </p:grpSpPr>
          <p:sp>
            <p:nvSpPr>
              <p:cNvPr id="148" name=""/>
              <p:cNvSpPr/>
              <p:nvPr/>
            </p:nvSpPr>
            <p:spPr>
              <a:xfrm>
                <a:off x="4344840" y="4876920"/>
                <a:ext cx="1978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4344840" y="4902480"/>
                <a:ext cx="1978200" cy="1422000"/>
                <a:chOff x="4344840" y="4902480"/>
                <a:chExt cx="1978200" cy="14220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4344840" y="4902480"/>
                  <a:ext cx="1978200" cy="355320"/>
                  <a:chOff x="4344840" y="4902480"/>
                  <a:chExt cx="1978200" cy="355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410360" y="490248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344840" y="490248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344840" y="5257800"/>
                  <a:ext cx="1978200" cy="355320"/>
                  <a:chOff x="4344840" y="5257800"/>
                  <a:chExt cx="1978200" cy="3553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410360" y="525780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344840" y="525780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344840" y="5613120"/>
                  <a:ext cx="1978200" cy="355320"/>
                  <a:chOff x="4344840" y="5613120"/>
                  <a:chExt cx="1978200" cy="355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4410360" y="561312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344840" y="561312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4344840" y="5968800"/>
                  <a:ext cx="1978200" cy="355680"/>
                  <a:chOff x="4344840" y="5968800"/>
                  <a:chExt cx="1978200" cy="3556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4410360" y="5968800"/>
                    <a:ext cx="1846080" cy="35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344840" y="5968800"/>
                    <a:ext cx="1978200" cy="355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19320"/>
            <a:ext cx="8001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elementos de un arreglo inician con el valor por defecto de una primi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propiedad length del arreglo es su longitud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arreglos son muy usados para buscar datos, especialmente si se conocen sus valores cuando se cre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diasMesesAnioBisiesto = {31,29,31,30,31,30,31,31,30,31,30,31}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 err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08160"/>
            <a:ext cx="792468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numeros = new int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numeros.length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truco = new int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truco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cubos = {1, 8, 27, 64, 125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 = cubos.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ubos[indice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pares = {2, 4, 6, 8, 10, 12, 14, 16, 18, 2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antida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pares[cantidad] != null)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tidad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[] voca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vocales.leng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 err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143000"/>
            <a:ext cx="79250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.    int[]   a= new int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2.    float[] b= new float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3.    int a2   = new int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4.    int[] b2 = new float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5.    a[2]  = -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6.    a[4]  =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7.    int k = a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8.    a[k] 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9.    a[20] =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0.   a[3]  =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Arreglos multidimensionale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990720"/>
            <a:ext cx="79246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trata de arreglos de arreglos y se declara de la siguiente for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[][] nombreArreglo = new tipo[cantidadFilas][cantidadColumnas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tabla = new int[4]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0][0]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0][1] = 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1][0]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1][1]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2][0]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2][1] = 8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14600" y="3581280"/>
            <a:ext cx="7161480" cy="2977560"/>
            <a:chOff x="2514600" y="3581280"/>
            <a:chExt cx="7161480" cy="2977560"/>
          </a:xfrm>
        </p:grpSpPr>
        <p:sp>
          <p:nvSpPr>
            <p:cNvPr id="171" name=""/>
            <p:cNvSpPr/>
            <p:nvPr/>
          </p:nvSpPr>
          <p:spPr>
            <a:xfrm>
              <a:off x="2514600" y="3581280"/>
              <a:ext cx="1859400" cy="29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b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374000" y="3581280"/>
              <a:ext cx="523800" cy="2977560"/>
              <a:chOff x="4374000" y="3581280"/>
              <a:chExt cx="523800" cy="2977560"/>
            </a:xfrm>
          </p:grpSpPr>
          <p:sp>
            <p:nvSpPr>
              <p:cNvPr id="173" name=""/>
              <p:cNvSpPr/>
              <p:nvPr/>
            </p:nvSpPr>
            <p:spPr>
              <a:xfrm>
                <a:off x="4374000" y="3581280"/>
                <a:ext cx="523800" cy="15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br>
                  <a:rPr sz="1400"/>
                </a:b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0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3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74000" y="3982680"/>
                <a:ext cx="52380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74000" y="4564800"/>
                <a:ext cx="5238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74000" y="5136120"/>
                <a:ext cx="5238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74000" y="5720040"/>
                <a:ext cx="5238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74000" y="6298560"/>
                <a:ext cx="5238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898880" y="3581280"/>
              <a:ext cx="1323720" cy="1639440"/>
              <a:chOff x="4898880" y="3581280"/>
              <a:chExt cx="1323720" cy="1639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898880" y="3581280"/>
                <a:ext cx="13237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898880" y="3609000"/>
                <a:ext cx="1322280" cy="1611720"/>
                <a:chOff x="4898880" y="3609000"/>
                <a:chExt cx="1322280" cy="1611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4898880" y="3609000"/>
                  <a:ext cx="1322280" cy="402480"/>
                  <a:chOff x="4898880" y="3609000"/>
                  <a:chExt cx="1322280" cy="4024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4996080" y="3609000"/>
                    <a:ext cx="112752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0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98880" y="3609000"/>
                    <a:ext cx="1322280" cy="402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4898880" y="4011840"/>
                  <a:ext cx="1322280" cy="402840"/>
                  <a:chOff x="4898880" y="4011840"/>
                  <a:chExt cx="1322280" cy="4028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996080" y="4011840"/>
                    <a:ext cx="1127520" cy="40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1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898880" y="4011840"/>
                    <a:ext cx="1322280" cy="402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4898880" y="4415040"/>
                  <a:ext cx="1322280" cy="402480"/>
                  <a:chOff x="4898880" y="4415040"/>
                  <a:chExt cx="1322280" cy="4024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996080" y="4415040"/>
                    <a:ext cx="112752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2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898880" y="4415040"/>
                    <a:ext cx="1322280" cy="402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4898880" y="4817880"/>
                  <a:ext cx="1322280" cy="402840"/>
                  <a:chOff x="4898880" y="4817880"/>
                  <a:chExt cx="1322280" cy="4028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996080" y="4817880"/>
                    <a:ext cx="1127520" cy="40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3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898880" y="4817880"/>
                    <a:ext cx="1322280" cy="402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4" name=""/>
            <p:cNvGrpSpPr/>
            <p:nvPr/>
          </p:nvGrpSpPr>
          <p:grpSpPr>
            <a:xfrm>
              <a:off x="6223320" y="3581280"/>
              <a:ext cx="684000" cy="1469880"/>
              <a:chOff x="6223320" y="3581280"/>
              <a:chExt cx="684000" cy="1469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223320" y="35812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23320" y="39826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23320" y="438552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23320" y="47908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908040" y="3581280"/>
              <a:ext cx="2768040" cy="1698840"/>
              <a:chOff x="6908040" y="3581280"/>
              <a:chExt cx="2768040" cy="1698840"/>
            </a:xfrm>
          </p:grpSpPr>
          <p:sp>
            <p:nvSpPr>
              <p:cNvPr id="200" name=""/>
              <p:cNvSpPr/>
              <p:nvPr/>
            </p:nvSpPr>
            <p:spPr>
              <a:xfrm>
                <a:off x="6908040" y="3581280"/>
                <a:ext cx="276804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908040" y="3604680"/>
                <a:ext cx="2549520" cy="1675440"/>
                <a:chOff x="6908040" y="3604680"/>
                <a:chExt cx="2549520" cy="167544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908040" y="3604680"/>
                  <a:ext cx="2549520" cy="258480"/>
                  <a:chOff x="6908040" y="3604680"/>
                  <a:chExt cx="2549520" cy="2584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908040" y="360468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6908040" y="3608280"/>
                    <a:ext cx="2548080" cy="226800"/>
                    <a:chOff x="6908040" y="3608280"/>
                    <a:chExt cx="2548080" cy="226800"/>
                  </a:xfrm>
                </p:grpSpPr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6908040" y="3608280"/>
                      <a:ext cx="1274040" cy="226800"/>
                      <a:chOff x="6908040" y="3608280"/>
                      <a:chExt cx="1274040" cy="226800"/>
                    </a:xfrm>
                  </p:grpSpPr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7005240" y="360828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6908040" y="360828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8182800" y="3608280"/>
                      <a:ext cx="1273320" cy="226800"/>
                      <a:chOff x="8182800" y="3608280"/>
                      <a:chExt cx="1273320" cy="22680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8280000" y="360828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7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8182800" y="360828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908040" y="4077000"/>
                  <a:ext cx="2549520" cy="258480"/>
                  <a:chOff x="6908040" y="4077000"/>
                  <a:chExt cx="2549520" cy="2584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6908040" y="407700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908040" y="4080600"/>
                    <a:ext cx="2548080" cy="226800"/>
                    <a:chOff x="6908040" y="4080600"/>
                    <a:chExt cx="2548080" cy="226800"/>
                  </a:xfrm>
                </p:grpSpPr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6908040" y="4080600"/>
                      <a:ext cx="1274040" cy="226800"/>
                      <a:chOff x="6908040" y="4080600"/>
                      <a:chExt cx="1274040" cy="22680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005240" y="40806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6908040" y="408060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8182800" y="4080600"/>
                      <a:ext cx="1273320" cy="226800"/>
                      <a:chOff x="8182800" y="4080600"/>
                      <a:chExt cx="1273320" cy="22680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8280000" y="40806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5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8182800" y="408060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908040" y="4555440"/>
                  <a:ext cx="2549520" cy="258480"/>
                  <a:chOff x="6908040" y="4555440"/>
                  <a:chExt cx="2549520" cy="2584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908040" y="455544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6908040" y="4581000"/>
                    <a:ext cx="2548080" cy="226800"/>
                    <a:chOff x="6908040" y="4581000"/>
                    <a:chExt cx="2548080" cy="226800"/>
                  </a:xfrm>
                </p:grpSpPr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6908040" y="4581000"/>
                      <a:ext cx="1274040" cy="226800"/>
                      <a:chOff x="6908040" y="4581000"/>
                      <a:chExt cx="1274040" cy="22680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005240" y="45810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6908040" y="458100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8182800" y="4581000"/>
                      <a:ext cx="1273320" cy="226800"/>
                      <a:chOff x="8182800" y="4581000"/>
                      <a:chExt cx="1273320" cy="22680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280000" y="45810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8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8182800" y="458100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908040" y="5020560"/>
                  <a:ext cx="2549520" cy="259560"/>
                  <a:chOff x="6908040" y="5020560"/>
                  <a:chExt cx="2549520" cy="259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6908040" y="5020560"/>
                    <a:ext cx="2549520" cy="25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6908040" y="5052960"/>
                    <a:ext cx="2548080" cy="227160"/>
                    <a:chOff x="6908040" y="5052960"/>
                    <a:chExt cx="2548080" cy="227160"/>
                  </a:xfrm>
                </p:grpSpPr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6908040" y="5052960"/>
                      <a:ext cx="1274040" cy="227160"/>
                      <a:chOff x="6908040" y="5052960"/>
                      <a:chExt cx="1274040" cy="227160"/>
                    </a:xfrm>
                  </p:grpSpPr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7005240" y="5052960"/>
                        <a:ext cx="1078560" cy="227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6908040" y="5052960"/>
                        <a:ext cx="1274040" cy="227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8182800" y="5052960"/>
                      <a:ext cx="1273320" cy="227160"/>
                      <a:chOff x="8182800" y="5052960"/>
                      <a:chExt cx="1273320" cy="22716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8280000" y="5052960"/>
                        <a:ext cx="1078560" cy="227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8182800" y="5052960"/>
                        <a:ext cx="1273320" cy="227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Maquina</cp:lastModifiedBy>
  <dcterms:modified xsi:type="dcterms:W3CDTF">2008-04-16T03:49:40Z</dcterms:modified>
  <cp:revision>184</cp:revision>
  <dc:subject/>
  <dc:title>Presentación de PowerPoint</dc:title>
</cp:coreProperties>
</file>