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CDE3-22AC-4750-B0F3-793102FC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1F5D-BD0A-436B-A30B-B1262FA1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82CA-4FBE-4200-8EE9-7B5EE062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A203-DDB1-454C-887A-B0993791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9EC-252E-49A2-A0D5-D9D8F58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8669-DF4E-49EA-AE75-60FC565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1A36-AAF6-4A61-BE17-BDEBBF9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3D14-58C5-4E1F-8A9C-5566F8FD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777F-6336-49DA-80F8-44B84468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AB22-FBC9-49D6-A440-3AB9FB5E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542-2601-4142-AE27-6D0DB4A7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0F70-224E-44A4-B4F2-EB3E7463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6DE-11C3-48DE-8AD1-B8F7DBE5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8D63-9347-420B-8553-82C4C09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2432-0157-4031-BC49-DD67A0AD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D965-FA6A-4F32-8A3C-95FB7A04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574F-1DB0-4BF4-8C0C-7F5CE4CA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5B08-FC06-43F8-B45B-2AA1133D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C1CA-3928-4866-91CE-DB315FCE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3B56-9A77-4532-9E65-8F7AEFC8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B2067-A77E-4D66-A4C1-E0D69AE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39CD-86B5-4D1A-8B8C-2B4E2FEC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75BA-3614-43C6-A8C6-4578472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837BA-4BF0-418F-89EE-354C9B3D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1B35-5D66-4DE8-9567-3B203B298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36CF-D97D-4827-9DFB-387705A8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66680" y="1600200"/>
            <a:ext cx="687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666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NDO CON ARREGL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9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UAJE DE PROGRAMAC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ENTADO 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860640"/>
            <a:ext cx="6769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dad Nacional de Ingenierí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acultad de Ingeniería Industrial y de Sistem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gel Chata Tintaya (angel.chata@gmail.com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aulaportal.googlepage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203480"/>
            <a:ext cx="8458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e cuenta con los arreglos siete y o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icar el primer elemento del arreglo siete con el primer elemento del arreglo ocho y así sucesivamente. Almacenar el resultado en otro arreglo y muéstr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z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ejercicios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atriz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siete = {7,17,27,37,47,57,67,77,87,97,107};   int[] ocho  = {8,18,28,38,48,58,68,98,108,118,198};   ..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143000"/>
            <a:ext cx="792504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na cadena es una secuencia de caracte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librería String (o clase String) se usa para definir todas las cadenas en J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s cadenas se delimitan con comillas dob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Hola Mundo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amara = "Camar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luces = camara +" Acci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vacio = "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onstruccion de cade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3000"/>
            <a:ext cx="86104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También se puede usar constructores para construir cadenas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a constant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Empleado = new String("R. Daneel Olivaw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a cadena va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inicio = new String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piando una cade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opiaEmpleado = new String(nombreEmplead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 un arreglo de ch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[] vocales = {'a','e','i','o','u'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cadenaVocales = new String(vocales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oncatenacion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14300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Para concatenar cadenas puede usar lo siguiente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Usando el operador 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Nombre = " + nombreEmpleado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uede concatenar primitivas y cade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dad = 22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Edad = " + eda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diante la función conca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 = "Elijah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apellidos = "Baley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ombreCompleto = nombre.concat(apellidos)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5720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ones con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884160"/>
            <a:ext cx="7925040" cy="57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ngitud de una cad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Hari Seld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longitud = nombre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bicar un carácter mediante un 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Gladia Delmarr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c = nombre.charA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xtraer una subcad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0123456789012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nombre = "Blissenobiarell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1234567890123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ubCadena = nombre.substring(2,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raciones con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1143000"/>
            <a:ext cx="792504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onvertir a mayúsculas o minúscu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titulo = "Segunda Fundacio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ayusculas = titulo.toUpperC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minusculas = titulo.toLowerC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SEGUNDA FUN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segunda fund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liminar espacios del inicio y el final de la cade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utor = " Isaac Asimov    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resaltar = "*"+autor.trim()+"*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*Isaac Asimov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bicar una subcad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143000"/>
            <a:ext cx="792504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Ubicar una subcadena desde una ub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               0123456789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lcalde = "Salvor Hardin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1 = alcalde.indexOf("v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2 = alcalde.indexOf("r",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ubicacion3 = alcalde.indexOf("h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0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rando dos cadena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143000"/>
            <a:ext cx="79250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ssword = "FGHPUW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password.equals("fgHPUw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Correcto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rror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Erro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ssword = "FGHPUW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password.equalsIgnoreCase("fgHPUw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Correcto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rror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Correc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rando regiones de una caden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447920"/>
            <a:ext cx="8153640" cy="51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url = "http://www.uni.edu.p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url.endsWith(".pe"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Pagina Nacional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Pagina Extranjer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arametro = "ip = 192.100.51.2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parametro.startsWith("ip"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La direccion "+paramet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El parámetro no es una i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siones con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caden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066680"/>
            <a:ext cx="815364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Obtener cadenas desde las primitivas. </a:t>
            </a:r>
            <a:br>
              <a:rPr sz="2000"/>
            </a:b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utilizan funciones de la librería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even = String.valueOf(7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unoPuntoUno = String.valueOf(1.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 pi = 3.14159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piString = String.valueOf(p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Obtener primitivas desde las cadenas. </a:t>
            </a:r>
            <a:br>
              <a:rPr sz="2000"/>
            </a:b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Para esto se utilizan funciones de las librerías Integer y Flo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alfa = "1977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lfaInteger =  Integer.parseInt(alf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beta = "19.77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 betaFloat =  Float.parseFloat(beta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ción de arregl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295280"/>
            <a:ext cx="7925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 arreglo es una colección de variables del mismo t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longitud de un arreglo es fijo cuando se crea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85800" y="2666880"/>
            <a:ext cx="8152560" cy="1474560"/>
            <a:chOff x="685800" y="2666880"/>
            <a:chExt cx="8152560" cy="1474560"/>
          </a:xfrm>
        </p:grpSpPr>
        <p:grpSp>
          <p:nvGrpSpPr>
            <p:cNvPr id="98" name=""/>
            <p:cNvGrpSpPr/>
            <p:nvPr/>
          </p:nvGrpSpPr>
          <p:grpSpPr>
            <a:xfrm>
              <a:off x="685800" y="2666880"/>
              <a:ext cx="4076280" cy="1396080"/>
              <a:chOff x="685800" y="2666880"/>
              <a:chExt cx="4076280" cy="1396080"/>
            </a:xfrm>
          </p:grpSpPr>
          <p:sp>
            <p:nvSpPr>
              <p:cNvPr id="99" name=""/>
              <p:cNvSpPr/>
              <p:nvPr/>
            </p:nvSpPr>
            <p:spPr>
              <a:xfrm>
                <a:off x="685800" y="266688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0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0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1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85800" y="302472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1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1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800" y="338292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2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2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5800" y="3741480"/>
                <a:ext cx="40762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lemento 3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[3]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es-PE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alor = 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762440" y="2666880"/>
              <a:ext cx="4075920" cy="1474560"/>
              <a:chOff x="4762440" y="2666880"/>
              <a:chExt cx="4075920" cy="1474560"/>
            </a:xfrm>
          </p:grpSpPr>
          <p:sp>
            <p:nvSpPr>
              <p:cNvPr id="104" name=""/>
              <p:cNvSpPr/>
              <p:nvPr/>
            </p:nvSpPr>
            <p:spPr>
              <a:xfrm>
                <a:off x="4762440" y="2666880"/>
                <a:ext cx="40759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4762440" y="2709720"/>
                <a:ext cx="4075200" cy="1431720"/>
                <a:chOff x="4762440" y="2709720"/>
                <a:chExt cx="4075200" cy="14317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4762440" y="2709720"/>
                  <a:ext cx="4075200" cy="357480"/>
                  <a:chOff x="4762440" y="2709720"/>
                  <a:chExt cx="4075200" cy="357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4827600" y="270972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4762440" y="270972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4762440" y="3067560"/>
                  <a:ext cx="4075200" cy="357480"/>
                  <a:chOff x="4762440" y="3067560"/>
                  <a:chExt cx="4075200" cy="35748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4827600" y="306756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762440" y="306756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4762440" y="3425400"/>
                  <a:ext cx="4075200" cy="358200"/>
                  <a:chOff x="4762440" y="3425400"/>
                  <a:chExt cx="4075200" cy="3582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4827600" y="3425400"/>
                    <a:ext cx="3944520" cy="35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762440" y="3425400"/>
                    <a:ext cx="4075200" cy="358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762440" y="3783960"/>
                  <a:ext cx="4075200" cy="357480"/>
                  <a:chOff x="4762440" y="3783960"/>
                  <a:chExt cx="4075200" cy="3574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27600" y="3783960"/>
                    <a:ext cx="3944520" cy="35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762440" y="3783960"/>
                    <a:ext cx="4075200" cy="357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76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669960"/>
            <a:ext cx="8153280" cy="63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Cadena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 (String [] arg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 = new String("Vierne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=="Viernes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spuesta A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s.equals("Viernes"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Respuesta 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1 = 123456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tring.valueOf(num1).charAt(3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1 = "Lunes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2 = "Martes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1.concat(s2).substring(4,8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s3 inicia con 2 espacios y tambien termina con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s3 = "  Lunes 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3.indexOf("es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s3.trim().indexOf("es"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rreglos de caden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83808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Un arreglo de cadenas también sigue los pasos de creación de arregl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04920" y="1676520"/>
            <a:ext cx="8381520" cy="958320"/>
            <a:chOff x="304920" y="1676520"/>
            <a:chExt cx="8381520" cy="958320"/>
          </a:xfrm>
        </p:grpSpPr>
        <p:sp>
          <p:nvSpPr>
            <p:cNvPr id="263" name=""/>
            <p:cNvSpPr/>
            <p:nvPr/>
          </p:nvSpPr>
          <p:spPr>
            <a:xfrm>
              <a:off x="304920" y="167652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lar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6480" y="167652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30280" y="167652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ing []  categorías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199584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6480" y="199584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30280" y="199584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tegorias = new String[3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4920" y="2315520"/>
              <a:ext cx="1681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iciació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6480" y="2315520"/>
              <a:ext cx="3438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0280" y="2315520"/>
              <a:ext cx="63561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ategorias[0] = "Drama"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88000" y="2819520"/>
            <a:ext cx="827316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reando una arreglo de cadenas va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arreglo = new String [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 int i = 0; i &lt; arreglo.length; i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reglo[i] = new Strin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Creando e iniciando un arreg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Accesando los elementos del arreg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 Comedia = "+ categorías[1].length(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jerc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143000"/>
            <a:ext cx="84582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Cual es el resultado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 [] categorias = {"Drama", "Comedia", "Accion"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Infantil"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 = categorías.length –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ategorías[indice].length(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.. main (String [ ] args)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143000"/>
            <a:ext cx="8458200" cy="58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main() cuenta con un único parámetro que es un arreglo de cade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ste arreglo de cadenas son los parámetros de la linea de co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:\&gt; java Eco Hola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Ec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ckage ejercic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Ec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static void main (String [] arg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(args.length !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"Uso: java Eco Arg1 Arg2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args[0] + " " + args[1]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2895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143000"/>
            <a:ext cx="7925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declara 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Inicialmente la variable referencia un valor 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potencias; //forma mas u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otencias[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789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7920" y="4800600"/>
            <a:ext cx="6247440" cy="685440"/>
            <a:chOff x="1447920" y="4800600"/>
            <a:chExt cx="6247440" cy="685440"/>
          </a:xfrm>
        </p:grpSpPr>
        <p:sp>
          <p:nvSpPr>
            <p:cNvPr id="122" name=""/>
            <p:cNvSpPr/>
            <p:nvPr/>
          </p:nvSpPr>
          <p:spPr>
            <a:xfrm>
              <a:off x="1447920" y="4800600"/>
              <a:ext cx="31262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4160" y="4800600"/>
              <a:ext cx="31212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143000"/>
            <a:ext cx="79250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crea 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requiere la longitud d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 = new int[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En caso de variables primitivas se inician en 0 o fal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s primitivas no se pueden operar con el valor n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 de variables referencia se inician en nu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 referencian a ningún obje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05120" y="4800600"/>
            <a:ext cx="4340520" cy="1386000"/>
            <a:chOff x="1905120" y="4800600"/>
            <a:chExt cx="4340520" cy="1386000"/>
          </a:xfrm>
        </p:grpSpPr>
        <p:sp>
          <p:nvSpPr>
            <p:cNvPr id="127" name=""/>
            <p:cNvSpPr/>
            <p:nvPr/>
          </p:nvSpPr>
          <p:spPr>
            <a:xfrm>
              <a:off x="1905120" y="4800600"/>
              <a:ext cx="2172240" cy="13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077360" y="4800600"/>
              <a:ext cx="2168280" cy="1386000"/>
              <a:chOff x="4077360" y="4800600"/>
              <a:chExt cx="2168280" cy="1386000"/>
            </a:xfrm>
          </p:grpSpPr>
          <p:sp>
            <p:nvSpPr>
              <p:cNvPr id="129" name=""/>
              <p:cNvSpPr/>
              <p:nvPr/>
            </p:nvSpPr>
            <p:spPr>
              <a:xfrm>
                <a:off x="4077360" y="4800600"/>
                <a:ext cx="2168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4077360" y="4825080"/>
                <a:ext cx="2167560" cy="1361520"/>
                <a:chOff x="4077360" y="4825080"/>
                <a:chExt cx="2167560" cy="13615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4077360" y="4825080"/>
                  <a:ext cx="2167560" cy="340200"/>
                  <a:chOff x="4077360" y="4825080"/>
                  <a:chExt cx="2167560" cy="34020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149360" y="48250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077360" y="48250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077360" y="5165280"/>
                  <a:ext cx="2167560" cy="340200"/>
                  <a:chOff x="4077360" y="5165280"/>
                  <a:chExt cx="2167560" cy="34020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149360" y="51652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077360" y="51652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077360" y="5505480"/>
                  <a:ext cx="2167560" cy="340200"/>
                  <a:chOff x="4077360" y="5505480"/>
                  <a:chExt cx="2167560" cy="3402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149360" y="5505480"/>
                    <a:ext cx="2022840" cy="34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077360" y="5505480"/>
                    <a:ext cx="2167560" cy="340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4077360" y="5846040"/>
                  <a:ext cx="2167560" cy="340560"/>
                  <a:chOff x="4077360" y="5846040"/>
                  <a:chExt cx="2167560" cy="340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4149360" y="5846040"/>
                    <a:ext cx="2022840" cy="34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077360" y="5846040"/>
                    <a:ext cx="2167560" cy="340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Creación de 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990720"/>
            <a:ext cx="79250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inicia los valores del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asignan valores elemento por ele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0]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1]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2]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tencias[3] = 8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arreglos pueden ser creados e iniciados al mismo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potencias = {1,2,4,8}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362320" y="4876920"/>
            <a:ext cx="3961440" cy="1447560"/>
            <a:chOff x="2362320" y="4876920"/>
            <a:chExt cx="3961440" cy="1447560"/>
          </a:xfrm>
        </p:grpSpPr>
        <p:sp>
          <p:nvSpPr>
            <p:cNvPr id="146" name=""/>
            <p:cNvSpPr/>
            <p:nvPr/>
          </p:nvSpPr>
          <p:spPr>
            <a:xfrm>
              <a:off x="2362320" y="4876920"/>
              <a:ext cx="19825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tencias-&gt;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344840" y="4876920"/>
              <a:ext cx="1978920" cy="1447560"/>
              <a:chOff x="4344840" y="4876920"/>
              <a:chExt cx="1978920" cy="1447560"/>
            </a:xfrm>
          </p:grpSpPr>
          <p:sp>
            <p:nvSpPr>
              <p:cNvPr id="148" name=""/>
              <p:cNvSpPr/>
              <p:nvPr/>
            </p:nvSpPr>
            <p:spPr>
              <a:xfrm>
                <a:off x="4344840" y="4876920"/>
                <a:ext cx="1978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4344840" y="4902480"/>
                <a:ext cx="1978200" cy="1422000"/>
                <a:chOff x="4344840" y="4902480"/>
                <a:chExt cx="1978200" cy="14220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4344840" y="4902480"/>
                  <a:ext cx="1978200" cy="355320"/>
                  <a:chOff x="4344840" y="4902480"/>
                  <a:chExt cx="1978200" cy="355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410360" y="490248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344840" y="490248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4344840" y="5257800"/>
                  <a:ext cx="1978200" cy="355320"/>
                  <a:chOff x="4344840" y="5257800"/>
                  <a:chExt cx="1978200" cy="3553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4410360" y="525780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344840" y="525780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4344840" y="5613120"/>
                  <a:ext cx="1978200" cy="355320"/>
                  <a:chOff x="4344840" y="5613120"/>
                  <a:chExt cx="1978200" cy="355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4410360" y="5613120"/>
                    <a:ext cx="1846080" cy="35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344840" y="5613120"/>
                    <a:ext cx="1978200" cy="3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4344840" y="5968800"/>
                  <a:ext cx="1978200" cy="355680"/>
                  <a:chOff x="4344840" y="5968800"/>
                  <a:chExt cx="1978200" cy="3556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4410360" y="5968800"/>
                    <a:ext cx="1846080" cy="355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8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4344840" y="5968800"/>
                    <a:ext cx="1978200" cy="355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rreg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19320"/>
            <a:ext cx="800100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elementos de un arreglo inician con el valor por defecto de una primi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a propiedad length del arreglo es su longitud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Los arreglos son muy usados para buscar datos, especialmente si se conocen sus valores cuando se cre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diasMesesAnioBisiesto = {31,29,31,30,31,30,31,31,30,31,30,31}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 err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208160"/>
            <a:ext cx="7924680" cy="52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numeros = new int[5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numeros.length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truco = new int[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truco[0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cubos = {1, 8, 27, 64, 125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 = cubos.leng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cubos[indice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[] pares = {2, 4, 6, 8, 10, 12, 14, 16, 18, 2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cantida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pares[cantidad] != null)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ntidad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bloqu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[] voca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vocales.length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4 err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143000"/>
            <a:ext cx="79250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.    int[]   a= new int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2.    float[] b= new float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3.    int a2   = new int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4.    int[] b2 = new float[10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5.    a[2]  = -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6.    a[4]  = 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7.    int k = a[6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8.    a[k] 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9.    a[20] =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0.   a[3]  =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ec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57200" y="304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  <a:ea typeface="Arial"/>
              </a:rPr>
              <a:t>Arreglos multidimensionales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990720"/>
            <a:ext cx="792468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  <a:ea typeface="Arial"/>
              </a:rPr>
              <a:t>Se trata de arreglos de arreglos y se declara de la siguiente for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ipo[][] nombreArreglo = new tipo[cantidadFilas][cantidadColumnas]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[] tabla = new int[4]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0][0]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0][1] = 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1][0]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1][1] = 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2][0] = 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a[2][1] = 8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514600" y="3581280"/>
            <a:ext cx="7161480" cy="2977560"/>
            <a:chOff x="2514600" y="3581280"/>
            <a:chExt cx="7161480" cy="2977560"/>
          </a:xfrm>
        </p:grpSpPr>
        <p:sp>
          <p:nvSpPr>
            <p:cNvPr id="171" name=""/>
            <p:cNvSpPr/>
            <p:nvPr/>
          </p:nvSpPr>
          <p:spPr>
            <a:xfrm>
              <a:off x="2514600" y="3581280"/>
              <a:ext cx="1859400" cy="29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b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374000" y="3581280"/>
              <a:ext cx="523800" cy="2977560"/>
              <a:chOff x="4374000" y="3581280"/>
              <a:chExt cx="523800" cy="2977560"/>
            </a:xfrm>
          </p:grpSpPr>
          <p:sp>
            <p:nvSpPr>
              <p:cNvPr id="173" name=""/>
              <p:cNvSpPr/>
              <p:nvPr/>
            </p:nvSpPr>
            <p:spPr>
              <a:xfrm>
                <a:off x="4374000" y="3581280"/>
                <a:ext cx="523800" cy="153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br>
                  <a:rPr sz="1400"/>
                </a:b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0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[3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74000" y="3982680"/>
                <a:ext cx="52380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74000" y="4564800"/>
                <a:ext cx="5238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74000" y="5136120"/>
                <a:ext cx="5238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74000" y="5720040"/>
                <a:ext cx="52380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74000" y="6298560"/>
                <a:ext cx="5238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Unicode MS"/>
                  </a:rPr>
                  <a:t>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898880" y="3581280"/>
              <a:ext cx="1323720" cy="1639440"/>
              <a:chOff x="4898880" y="3581280"/>
              <a:chExt cx="1323720" cy="1639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898880" y="3581280"/>
                <a:ext cx="13237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4898880" y="3609000"/>
                <a:ext cx="1322280" cy="1611720"/>
                <a:chOff x="4898880" y="3609000"/>
                <a:chExt cx="1322280" cy="1611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4898880" y="3609000"/>
                  <a:ext cx="1322280" cy="402480"/>
                  <a:chOff x="4898880" y="3609000"/>
                  <a:chExt cx="1322280" cy="40248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4996080" y="3609000"/>
                    <a:ext cx="112752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0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4898880" y="3609000"/>
                    <a:ext cx="1322280" cy="402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4898880" y="4011840"/>
                  <a:ext cx="1322280" cy="402840"/>
                  <a:chOff x="4898880" y="4011840"/>
                  <a:chExt cx="1322280" cy="40284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996080" y="4011840"/>
                    <a:ext cx="1127520" cy="40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1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898880" y="4011840"/>
                    <a:ext cx="1322280" cy="402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4898880" y="4415040"/>
                  <a:ext cx="1322280" cy="402480"/>
                  <a:chOff x="4898880" y="4415040"/>
                  <a:chExt cx="1322280" cy="4024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4996080" y="4415040"/>
                    <a:ext cx="1127520" cy="40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2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898880" y="4415040"/>
                    <a:ext cx="1322280" cy="402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4898880" y="4817880"/>
                  <a:ext cx="1322280" cy="402840"/>
                  <a:chOff x="4898880" y="4817880"/>
                  <a:chExt cx="1322280" cy="4028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996080" y="4817880"/>
                    <a:ext cx="1127520" cy="40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PE" sz="1400" spc="-1" strike="noStrike">
                        <a:solidFill>
                          <a:srgbClr val="000000"/>
                        </a:solidFill>
                        <a:latin typeface="Courier New"/>
                        <a:ea typeface="Courier New"/>
                      </a:rPr>
                      <a:t>tabla[3]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898880" y="4817880"/>
                    <a:ext cx="1322280" cy="402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4" name=""/>
            <p:cNvGrpSpPr/>
            <p:nvPr/>
          </p:nvGrpSpPr>
          <p:grpSpPr>
            <a:xfrm>
              <a:off x="6223320" y="3581280"/>
              <a:ext cx="684000" cy="1469880"/>
              <a:chOff x="6223320" y="3581280"/>
              <a:chExt cx="684000" cy="1469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223320" y="35812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23320" y="39826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23320" y="438552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23320" y="4790880"/>
                <a:ext cx="6840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4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-&gt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908040" y="3581280"/>
              <a:ext cx="2768040" cy="1698840"/>
              <a:chOff x="6908040" y="3581280"/>
              <a:chExt cx="2768040" cy="1698840"/>
            </a:xfrm>
          </p:grpSpPr>
          <p:sp>
            <p:nvSpPr>
              <p:cNvPr id="200" name=""/>
              <p:cNvSpPr/>
              <p:nvPr/>
            </p:nvSpPr>
            <p:spPr>
              <a:xfrm>
                <a:off x="6908040" y="3581280"/>
                <a:ext cx="276804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908040" y="3604680"/>
                <a:ext cx="2549520" cy="1675440"/>
                <a:chOff x="6908040" y="3604680"/>
                <a:chExt cx="2549520" cy="167544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908040" y="3604680"/>
                  <a:ext cx="2549520" cy="258480"/>
                  <a:chOff x="6908040" y="3604680"/>
                  <a:chExt cx="2549520" cy="25848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908040" y="360468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6908040" y="3608280"/>
                    <a:ext cx="2548080" cy="226800"/>
                    <a:chOff x="6908040" y="3608280"/>
                    <a:chExt cx="2548080" cy="226800"/>
                  </a:xfrm>
                </p:grpSpPr>
                <p:grpSp>
                  <p:nvGrpSpPr>
                    <p:cNvPr id="205" name=""/>
                    <p:cNvGrpSpPr/>
                    <p:nvPr/>
                  </p:nvGrpSpPr>
                  <p:grpSpPr>
                    <a:xfrm>
                      <a:off x="6908040" y="3608280"/>
                      <a:ext cx="1274040" cy="226800"/>
                      <a:chOff x="6908040" y="3608280"/>
                      <a:chExt cx="1274040" cy="226800"/>
                    </a:xfrm>
                  </p:grpSpPr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7005240" y="360828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1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6908040" y="360828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8182800" y="3608280"/>
                      <a:ext cx="1273320" cy="226800"/>
                      <a:chOff x="8182800" y="3608280"/>
                      <a:chExt cx="1273320" cy="22680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8280000" y="360828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7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8182800" y="360828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908040" y="4077000"/>
                  <a:ext cx="2549520" cy="258480"/>
                  <a:chOff x="6908040" y="4077000"/>
                  <a:chExt cx="2549520" cy="2584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6908040" y="407700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908040" y="4080600"/>
                    <a:ext cx="2548080" cy="226800"/>
                    <a:chOff x="6908040" y="4080600"/>
                    <a:chExt cx="2548080" cy="226800"/>
                  </a:xfrm>
                </p:grpSpPr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6908040" y="4080600"/>
                      <a:ext cx="1274040" cy="226800"/>
                      <a:chOff x="6908040" y="4080600"/>
                      <a:chExt cx="1274040" cy="22680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005240" y="40806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3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6908040" y="408060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8182800" y="4080600"/>
                      <a:ext cx="1273320" cy="226800"/>
                      <a:chOff x="8182800" y="4080600"/>
                      <a:chExt cx="1273320" cy="22680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8280000" y="40806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5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8182800" y="408060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6908040" y="4555440"/>
                  <a:ext cx="2549520" cy="258480"/>
                  <a:chOff x="6908040" y="4555440"/>
                  <a:chExt cx="2549520" cy="2584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908040" y="4555440"/>
                    <a:ext cx="2549520" cy="258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6908040" y="4581000"/>
                    <a:ext cx="2548080" cy="226800"/>
                    <a:chOff x="6908040" y="4581000"/>
                    <a:chExt cx="2548080" cy="226800"/>
                  </a:xfrm>
                </p:grpSpPr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6908040" y="4581000"/>
                      <a:ext cx="1274040" cy="226800"/>
                      <a:chOff x="6908040" y="4581000"/>
                      <a:chExt cx="1274040" cy="22680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005240" y="45810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4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6908040" y="4581000"/>
                        <a:ext cx="127404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8182800" y="4581000"/>
                      <a:ext cx="1273320" cy="226800"/>
                      <a:chOff x="8182800" y="4581000"/>
                      <a:chExt cx="1273320" cy="22680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280000" y="4581000"/>
                        <a:ext cx="10785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8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8182800" y="4581000"/>
                        <a:ext cx="1273320" cy="22680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908040" y="5020560"/>
                  <a:ext cx="2549520" cy="259560"/>
                  <a:chOff x="6908040" y="5020560"/>
                  <a:chExt cx="2549520" cy="259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6908040" y="5020560"/>
                    <a:ext cx="2549520" cy="25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6908040" y="5052960"/>
                    <a:ext cx="2548080" cy="227160"/>
                    <a:chOff x="6908040" y="5052960"/>
                    <a:chExt cx="2548080" cy="227160"/>
                  </a:xfrm>
                </p:grpSpPr>
                <p:grpSp>
                  <p:nvGrpSpPr>
                    <p:cNvPr id="232" name=""/>
                    <p:cNvGrpSpPr/>
                    <p:nvPr/>
                  </p:nvGrpSpPr>
                  <p:grpSpPr>
                    <a:xfrm>
                      <a:off x="6908040" y="5052960"/>
                      <a:ext cx="1274040" cy="227160"/>
                      <a:chOff x="6908040" y="5052960"/>
                      <a:chExt cx="1274040" cy="227160"/>
                    </a:xfrm>
                  </p:grpSpPr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7005240" y="5052960"/>
                        <a:ext cx="1078560" cy="227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6908040" y="5052960"/>
                        <a:ext cx="1274040" cy="227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8182800" y="5052960"/>
                      <a:ext cx="1273320" cy="227160"/>
                      <a:chOff x="8182800" y="5052960"/>
                      <a:chExt cx="1273320" cy="22716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8280000" y="5052960"/>
                        <a:ext cx="1078560" cy="227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PE" sz="1400" spc="-1" strike="noStrike">
                            <a:solidFill>
                              <a:srgbClr val="000000"/>
                            </a:solidFill>
                            <a:latin typeface="Courier New"/>
                            <a:ea typeface="Courier New"/>
                          </a:rPr>
                          <a:t>0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8182800" y="5052960"/>
                        <a:ext cx="1273320" cy="227160"/>
                      </a:xfrm>
                      <a:prstGeom prst="rect">
                        <a:avLst/>
                      </a:prstGeom>
                      <a:noFill/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1:30:48Z</dcterms:created>
  <dc:creator>ANGEL CHATA</dc:creator>
  <dc:description/>
  <dc:language>en-US</dc:language>
  <cp:lastModifiedBy>Maquina</cp:lastModifiedBy>
  <dcterms:modified xsi:type="dcterms:W3CDTF">2008-04-16T03:49:40Z</dcterms:modified>
  <cp:revision>184</cp:revision>
  <dc:subject/>
  <dc:title>Presentación de PowerPoint</dc:title>
</cp:coreProperties>
</file>