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9F4E-29D3-47BC-93E6-83BDFB9E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DD2-D53E-4362-8D37-8397CE83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7531-5887-4092-A023-9AD7B77D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97CF-A7BE-43EC-A4D4-D1DD0D96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1437-87F3-4D87-BCB4-03E14CD9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24D2-909E-43DA-A49B-B08A9AA7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9098-8176-4EA0-9877-E4474C93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D445-4726-481E-A50E-87D2100F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1825-5FE5-4348-B948-6E68C7CD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C65E-D352-4A03-8A28-E4E93526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75F5-DEFC-46FF-B1A2-FEFDB98D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1BA4-DE6C-4507-9947-067DB330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67913C-E74C-468F-971E-2A14F8A67D2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4DACC0-7DC6-401D-B44F-4BDC3BB70390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2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2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2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2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2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2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2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30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3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8:51:27Z</dcterms:created>
  <dc:creator>최봉수</dc:creator>
  <dc:description/>
  <dc:language>en-US</dc:language>
  <cp:lastModifiedBy>맛있다 군만두</cp:lastModifiedBy>
  <dcterms:modified xsi:type="dcterms:W3CDTF">2024-09-24T08:29:04Z</dcterms:modified>
  <cp:revision>4</cp:revision>
  <dc:subject/>
  <dc:title>슬라이드 1</dc:title>
</cp:coreProperties>
</file>