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BEE-2890-4098-BC6D-476A2C7B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D28-8298-4EFE-9888-4447E24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B4F-3971-4950-87BA-A3051D6D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608-E2D8-40EC-B661-925A1CD9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CD4-1C48-480E-991B-AA5BD2A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942-4AAB-4F9C-B87A-4AE4D18E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9FB-71EB-4776-BA87-77553EAA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AFA-C286-4583-A90E-A88F8B5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6AB-F108-4636-ADBF-D68AC4CD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E49-7F54-4AA1-846E-9B39F0C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4F3-7A2A-48E5-B3D3-05C20C0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C4E-0B41-4484-A177-67D80E3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4CEC0-5FB7-47A9-8417-DDF7592734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8664D-69C8-40B0-9447-C7F3DF2A83D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2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2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2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3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51:27Z</dcterms:created>
  <dc:creator>최봉수</dc:creator>
  <dc:description/>
  <dc:language>en-US</dc:language>
  <cp:lastModifiedBy>맛있다 군만두</cp:lastModifiedBy>
  <dcterms:modified xsi:type="dcterms:W3CDTF">2024-09-24T08:29:04Z</dcterms:modified>
  <cp:revision>4</cp:revision>
  <dc:subject/>
  <dc:title>슬라이드 1</dc:title>
</cp:coreProperties>
</file>