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1FD-F93A-49C9-B335-A3BE77C7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E6C-4AE2-4662-8FB4-1779D243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C42-21A5-4AF2-AD11-E86D0E2F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0D6-08D4-493A-95F0-5798426D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1EED-336A-4A39-A76B-C70D02CD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D670-5585-4B61-BFF7-3D1AAD02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41B9-0CBD-4C84-8648-B08604C3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D644-E9F8-4F2D-8830-3C0CEA0E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D713-A7B4-4B76-9E56-C0FE8C37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EA4F-E96F-4CEA-BEBD-F5ABF6C9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B0F4-39DA-42CD-84A9-F4A2EDFC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8BC-3FDA-4228-B63F-7B5C3E3C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C333-345D-4AA5-BD7E-C5E1E2A8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DB1C-E6E3-49C0-BE17-DEA1523E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EB9A-2057-4D22-83D5-309BEC1C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BE19-BCB9-4358-9EDD-0CEF1E30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A3EF-E962-481F-8360-F3A93569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8D63-E789-4371-892E-12349E52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881-3EE2-46B3-A12E-F47D7B15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E3F6-148D-4265-B188-F0E1FA55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112-3B93-4998-9438-AC046594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8C8-8A5C-4DFB-8302-C27DEE3F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34D-0C8F-4B17-9FB4-F69514A7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FC7-39D9-4F0B-B941-23FE8942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D1E1-360F-476C-B998-C3571023FC30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100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1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5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4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3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1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5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7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8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320B-7B47-4144-88A7-3F5AE7CE53B3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mailto:Ns-users@isi.edu" TargetMode="External"/><Relationship Id="rId5" Type="http://schemas.openxmlformats.org/officeDocument/2006/relationships/hyperlink" Target="http://www.isi.edu/nsnam/ns/ns-lists.html" TargetMode="External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hyperlink" Target="http://dev.scriptics.com/scripting" TargetMode="Externa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S TUTORIAL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adma Halda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haldar@isi.edu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SC/ISI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09/04/02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Hello World - Interactive Mo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swallow 71% </a:t>
            </a: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% set ns [new Simulator]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_o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% $ns at 1 “puts \“Hello World!\””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% $ns at 1.5 “exit”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% $ns ru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Hello World!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swallow 72%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Hello World - Batch Mo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Courier New"/>
              </a:rPr>
              <a:t>simple.tc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set ns [new Simulator]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$ns at 1 “puts \“Hello World!\””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$ns at 1.5 “exit”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383ad"/>
                </a:solidFill>
                <a:latin typeface="Courier New"/>
              </a:rPr>
              <a:t>$ns ru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urier New"/>
              </a:rPr>
              <a:t>swallow 74% </a:t>
            </a:r>
            <a:r>
              <a:rPr b="1" lang="en-US" sz="2800" spc="-1" strike="noStrike">
                <a:solidFill>
                  <a:srgbClr val="8383ad"/>
                </a:solidFill>
                <a:latin typeface="Courier New"/>
              </a:rPr>
              <a:t>ns simple.tc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urier New"/>
              </a:rPr>
              <a:t>Hello World!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Courier New"/>
              </a:rPr>
              <a:t>swallow 75%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vent Driven Simul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cheduler – main controller of event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cheduler clock - simulator virtual tim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[$ns_ now] returns the current simulator tim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nt queue - holds events in the order of their firing tim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vents have a firing time and a handler func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wo types of events possible – packets and “at-events”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Discrete Event Scheduler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133720" y="2384280"/>
            <a:ext cx="533160" cy="1407960"/>
            <a:chOff x="2133720" y="2384280"/>
            <a:chExt cx="533160" cy="1407960"/>
          </a:xfrm>
        </p:grpSpPr>
        <p:sp>
          <p:nvSpPr>
            <p:cNvPr id="450" name=""/>
            <p:cNvSpPr/>
            <p:nvPr/>
          </p:nvSpPr>
          <p:spPr>
            <a:xfrm>
              <a:off x="2133720" y="2384280"/>
              <a:ext cx="533160" cy="2815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33720" y="2665800"/>
              <a:ext cx="533160" cy="2815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33720" y="2947320"/>
              <a:ext cx="533160" cy="2815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3229200"/>
              <a:ext cx="533160" cy="2815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33720" y="3510720"/>
              <a:ext cx="533160" cy="281520"/>
            </a:xfrm>
            <a:prstGeom prst="rect">
              <a:avLst/>
            </a:prstGeom>
            <a:solidFill>
              <a:srgbClr val="babe90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3862440" y="1538280"/>
            <a:ext cx="4056120" cy="45972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time_, uid_, next_, handler_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32040" y="2224080"/>
            <a:ext cx="1734480" cy="418680"/>
            <a:chOff x="932040" y="2224080"/>
            <a:chExt cx="1734480" cy="418680"/>
          </a:xfrm>
        </p:grpSpPr>
        <p:sp>
          <p:nvSpPr>
            <p:cNvPr id="457" name=""/>
            <p:cNvSpPr/>
            <p:nvPr/>
          </p:nvSpPr>
          <p:spPr>
            <a:xfrm>
              <a:off x="2133360" y="2360880"/>
              <a:ext cx="533160" cy="281880"/>
            </a:xfrm>
            <a:prstGeom prst="rect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32040" y="2224080"/>
              <a:ext cx="122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Head_ -&gt;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133720" y="2841480"/>
            <a:ext cx="533160" cy="281160"/>
          </a:xfrm>
          <a:prstGeom prst="rect">
            <a:avLst/>
          </a:prstGeom>
          <a:solidFill>
            <a:srgbClr val="ffff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33720" y="3527280"/>
            <a:ext cx="533160" cy="281160"/>
          </a:xfrm>
          <a:prstGeom prst="rect">
            <a:avLst/>
          </a:prstGeom>
          <a:solidFill>
            <a:srgbClr val="babe9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375800" y="2004480"/>
            <a:ext cx="3030480" cy="993240"/>
            <a:chOff x="4375800" y="2004480"/>
            <a:chExt cx="3030480" cy="993240"/>
          </a:xfrm>
        </p:grpSpPr>
        <p:sp>
          <p:nvSpPr>
            <p:cNvPr id="462" name=""/>
            <p:cNvSpPr/>
            <p:nvPr/>
          </p:nvSpPr>
          <p:spPr>
            <a:xfrm>
              <a:off x="4375800" y="253800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383ad"/>
                  </a:solidFill>
                  <a:latin typeface="Tahoma"/>
                </a:rPr>
                <a:t>handler_ -&gt; handle()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cxnSp>
          <p:nvCxnSpPr>
            <p:cNvPr id="463" name=""/>
            <p:cNvCxnSpPr>
              <a:stCxn id="455" idx="2"/>
              <a:endCxn id="462" idx="0"/>
            </p:cNvCxnSpPr>
            <p:nvPr/>
          </p:nvCxnSpPr>
          <p:spPr>
            <a:xfrm>
              <a:off x="5890680" y="2004480"/>
              <a:ext cx="1080" cy="533880"/>
            </a:xfrm>
            <a:prstGeom prst="straightConnector1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</p:cxnSp>
      </p:grpSp>
      <p:grpSp>
        <p:nvGrpSpPr>
          <p:cNvPr id="464" name=""/>
          <p:cNvGrpSpPr/>
          <p:nvPr/>
        </p:nvGrpSpPr>
        <p:grpSpPr>
          <a:xfrm>
            <a:off x="3862440" y="2895120"/>
            <a:ext cx="4056120" cy="1134360"/>
            <a:chOff x="3862440" y="2895120"/>
            <a:chExt cx="4056120" cy="1134360"/>
          </a:xfrm>
        </p:grpSpPr>
        <p:sp>
          <p:nvSpPr>
            <p:cNvPr id="465" name=""/>
            <p:cNvSpPr/>
            <p:nvPr/>
          </p:nvSpPr>
          <p:spPr>
            <a:xfrm>
              <a:off x="3862440" y="3569760"/>
              <a:ext cx="40561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383ad"/>
                  </a:solidFill>
                  <a:latin typeface="Tahoma"/>
                </a:rPr>
                <a:t>time_, uid_, next_, handler_</a:t>
              </a: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48640" y="2942280"/>
              <a:ext cx="183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cxnSp>
          <p:nvCxnSpPr>
            <p:cNvPr id="467" name=""/>
            <p:cNvCxnSpPr>
              <a:stCxn id="462" idx="2"/>
              <a:endCxn id="465" idx="0"/>
            </p:cNvCxnSpPr>
            <p:nvPr/>
          </p:nvCxnSpPr>
          <p:spPr>
            <a:xfrm>
              <a:off x="5891040" y="2895120"/>
              <a:ext cx="1080" cy="675000"/>
            </a:xfrm>
            <a:prstGeom prst="straightConnector1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</p:cxnSp>
      </p:grpSp>
      <p:cxnSp>
        <p:nvCxnSpPr>
          <p:cNvPr id="468" name=""/>
          <p:cNvCxnSpPr>
            <a:stCxn id="457" idx="3"/>
            <a:endCxn id="455" idx="1"/>
          </p:cNvCxnSpPr>
          <p:nvPr/>
        </p:nvCxnSpPr>
        <p:spPr>
          <a:xfrm flipV="1">
            <a:off x="2666520" y="1770840"/>
            <a:ext cx="1220040" cy="731160"/>
          </a:xfrm>
          <a:prstGeom prst="straightConnector1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</p:cxnSp>
      <p:grpSp>
        <p:nvGrpSpPr>
          <p:cNvPr id="469" name=""/>
          <p:cNvGrpSpPr/>
          <p:nvPr/>
        </p:nvGrpSpPr>
        <p:grpSpPr>
          <a:xfrm>
            <a:off x="2666520" y="2955600"/>
            <a:ext cx="1219320" cy="973440"/>
            <a:chOff x="2666520" y="2955600"/>
            <a:chExt cx="1219320" cy="973440"/>
          </a:xfrm>
        </p:grpSpPr>
        <p:sp>
          <p:nvSpPr>
            <p:cNvPr id="470" name=""/>
            <p:cNvSpPr/>
            <p:nvPr/>
          </p:nvSpPr>
          <p:spPr>
            <a:xfrm>
              <a:off x="2742480" y="35301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imes New Roman"/>
                </a:rPr>
                <a:t>Insert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5" idx="1"/>
              <a:endCxn id="459" idx="3"/>
            </p:cNvCxnSpPr>
            <p:nvPr/>
          </p:nvCxnSpPr>
          <p:spPr>
            <a:xfrm flipH="1" flipV="1">
              <a:off x="2666520" y="2955600"/>
              <a:ext cx="1219680" cy="887760"/>
            </a:xfrm>
            <a:prstGeom prst="straightConnector1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</p:cxnSp>
      </p:grpSp>
      <p:sp>
        <p:nvSpPr>
          <p:cNvPr id="472" name=""/>
          <p:cNvSpPr/>
          <p:nvPr/>
        </p:nvSpPr>
        <p:spPr>
          <a:xfrm>
            <a:off x="762120" y="3959280"/>
            <a:ext cx="457200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Four types of scheduler: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List: simple linked list, order-preserving, O(N)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Heap: O(logN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Calendar: hash-based, fastest, default, O(1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25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ahoma"/>
              </a:rPr>
              <a:t>Real-time: subclass of list, sync with real-time, O(N)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82520" y="1309680"/>
            <a:ext cx="97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Event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Queue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56320" y="216216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Dequ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04080" y="20098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Dispatch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80040" y="30765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Times New Roman"/>
              </a:rPr>
              <a:t>Reschedule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lements of Ns-2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reate the event schedul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[Turn on tracing]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reate networ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tup rout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sert error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reate transport connec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reate traffic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eating Event Scheduler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reate event schedul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ns [new Simulator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chedule event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at &lt;time&gt; &lt;event&gt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&lt;event&gt;: any legitimate ns/tcl command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art schedule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ru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racing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race packets on all link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trace-all [open test.out w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&lt;event&gt; &lt;time&gt; &lt;from&gt; &lt;to&gt; &lt;pkt&gt; &lt;size&gt; -- &lt;fid&gt; &lt;src&gt; &lt;dst&gt; &lt;seq&gt; &lt;attr&gt;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+ 1 0 2 cbr 210 ------- 0 0.0 3.1 0 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- 1 0 2 cbr 210 ------- 0 0.0 3.1 0 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r 1.00234 0 2 cbr 210 ------- 0 0.0 3.1 0 0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race packets on all links in nam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namtrace-all [open test.nam w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namtrace-all-wireless [open wtest.nam w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racing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urn on tracing on specific link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trace-queue $n0 $n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namtrace-queue $n0 $n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050"/>
                </a:solidFill>
                <a:latin typeface="Arial"/>
              </a:rPr>
              <a:t>Trace-all commands must appear immediately after creating scheduler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racing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vent trac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eventtrace-all [$file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dd eventtrace </a:t>
            </a:r>
            <a:r>
              <a:rPr b="0" i="1" lang="en-US" sz="2800" spc="-1" strike="noStrike">
                <a:solidFill>
                  <a:srgbClr val="8383ad"/>
                </a:solidFill>
                <a:latin typeface="Arial"/>
              </a:rPr>
              <a:t>after 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race-all as trace-all file is used as defaul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xample script: ~ns/tcl/ex/tcp-et.tc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eating Network Topolog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od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n0 [$ns node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n1 [$ns node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inks and queu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duplex-link $n0 $n1 &lt;bandwidth&gt; &lt;delay&gt; &lt;queue_type&gt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&lt;queue_type&gt;: DropTail, RED, CBQ, FQ, SFQ, DR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duplex-link $n0 $n1 5Mb 2ms DropTai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utorial Outlin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art I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S fundamental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ired worl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alk-thru an example NS scrip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art II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Visualization tools &amp; other utiliti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elp and referenc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Inserting Error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reating Error Modu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loss_module [new ErrorModel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loss_module set rate_ 0.0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loss_module unit pk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loss_module ranvar [new RandomVariable/Uniform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loss_module drop-target [new Agent/Null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Inserting Error Modul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lossmodel $loss_module $n0 $n1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etwork Dynamic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ink failur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ooks in routing module to reflect routing chang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 model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rtmodel Trace &lt;config_file&gt; $n0 $n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rtmodel Exponential {&lt;params&gt;} $n0 $n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rtmodel Deterministic {&lt;params&gt;} $n0 $n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rtmodel-at &lt;time&gt; up|down $n0 $n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arameter lis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[&lt;start&gt;] &lt;up_interval&gt; &lt;down_interval&gt; [&lt;finish&gt;]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Setup Routing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Unicas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rtproto &lt;type&gt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&lt;type&gt;: Static, Session, DV, LS, Manual or hierarchic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ulticas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multicast (right after [new Simulator]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mrtproto &lt;type&gt;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&lt;type&gt;: CtrMcast, DM, ST, BS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reating Connection: TCP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ne-way TCP sending agent [Tahoe, Reno, NewReno, Sack, Vegas and Fack]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tcp [new Agent/TCP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tcpsink [new Agent/TCPSink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attach-agent $n0 $tc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attach-agent $n1 $tcpsin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connect $tcp $tcpsin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Creating Traffic: On Top of TCP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ftp [new Application/FTP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ftp attach-agent $tc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telnet [new Application/Telnet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telnet attach-agent $tcp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lumbing: Packet Flow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842480" y="4411800"/>
            <a:ext cx="326880" cy="779760"/>
            <a:chOff x="1842480" y="4411800"/>
            <a:chExt cx="326880" cy="779760"/>
          </a:xfrm>
        </p:grpSpPr>
        <p:sp>
          <p:nvSpPr>
            <p:cNvPr id="501" name=""/>
            <p:cNvSpPr/>
            <p:nvPr/>
          </p:nvSpPr>
          <p:spPr>
            <a:xfrm>
              <a:off x="1842480" y="4411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42480" y="4792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835360" y="2743200"/>
            <a:ext cx="3657600" cy="14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44640" y="2286000"/>
            <a:ext cx="990720" cy="9144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2960" y="2286000"/>
            <a:ext cx="990360" cy="914400"/>
          </a:xfrm>
          <a:prstGeom prst="ellipse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045880" y="25480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94200" y="25480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082520" y="3962520"/>
            <a:ext cx="115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68320" y="3429000"/>
            <a:ext cx="115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2800" y="4871880"/>
            <a:ext cx="698760" cy="3070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49360" y="2666880"/>
            <a:ext cx="3352320" cy="3353040"/>
            <a:chOff x="549360" y="2666880"/>
            <a:chExt cx="3352320" cy="3353040"/>
          </a:xfrm>
        </p:grpSpPr>
        <p:sp>
          <p:nvSpPr>
            <p:cNvPr id="512" name=""/>
            <p:cNvSpPr/>
            <p:nvPr/>
          </p:nvSpPr>
          <p:spPr>
            <a:xfrm>
              <a:off x="1844640" y="4343400"/>
              <a:ext cx="30420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606400" y="38098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234800" y="34290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082520" y="4648320"/>
              <a:ext cx="304560" cy="304560"/>
            </a:xfrm>
            <a:prstGeom prst="ellipse">
              <a:avLst/>
            </a:prstGeom>
            <a:solidFill>
              <a:srgbClr val="fefed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9360" y="4800600"/>
              <a:ext cx="53316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87440" y="4800600"/>
              <a:ext cx="45684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149200" y="4266720"/>
              <a:ext cx="456840" cy="2286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1310760" y="2666880"/>
              <a:ext cx="533160" cy="1600200"/>
            </a:xfrm>
            <a:prstGeom prst="line">
              <a:avLst/>
            </a:prstGeom>
            <a:ln w="936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35000" y="2666880"/>
              <a:ext cx="838080" cy="1295640"/>
            </a:xfrm>
            <a:prstGeom prst="line">
              <a:avLst/>
            </a:prstGeom>
            <a:ln w="936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1844640" y="480060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98480" y="3995640"/>
            <a:ext cx="35460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44960" y="3962520"/>
            <a:ext cx="1218960" cy="30456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256200" y="39686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Agent/TCP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916360" y="4114800"/>
            <a:ext cx="228600" cy="763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35520" y="39625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21320" y="34290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75800" y="4871880"/>
            <a:ext cx="698760" cy="3070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202360" y="2666880"/>
            <a:ext cx="3352320" cy="3353040"/>
            <a:chOff x="5202360" y="2666880"/>
            <a:chExt cx="3352320" cy="3353040"/>
          </a:xfrm>
        </p:grpSpPr>
        <p:sp>
          <p:nvSpPr>
            <p:cNvPr id="530" name=""/>
            <p:cNvSpPr/>
            <p:nvPr/>
          </p:nvSpPr>
          <p:spPr>
            <a:xfrm>
              <a:off x="6497640" y="4343400"/>
              <a:ext cx="30420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259400" y="38098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87800" y="34290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35520" y="4648320"/>
              <a:ext cx="304560" cy="304560"/>
            </a:xfrm>
            <a:prstGeom prst="ellipse">
              <a:avLst/>
            </a:prstGeom>
            <a:solidFill>
              <a:srgbClr val="fefed6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202360" y="4800600"/>
              <a:ext cx="53316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0440" y="4800600"/>
              <a:ext cx="456840" cy="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6802200" y="4266720"/>
              <a:ext cx="456840" cy="228600"/>
            </a:xfrm>
            <a:prstGeom prst="line">
              <a:avLst/>
            </a:prstGeom>
            <a:ln w="9360">
              <a:solidFill>
                <a:srgbClr val="8383a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5963760" y="2666880"/>
              <a:ext cx="533160" cy="1600200"/>
            </a:xfrm>
            <a:prstGeom prst="line">
              <a:avLst/>
            </a:prstGeom>
            <a:ln w="936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8000" y="2666880"/>
              <a:ext cx="838080" cy="1295640"/>
            </a:xfrm>
            <a:prstGeom prst="line">
              <a:avLst/>
            </a:prstGeom>
            <a:ln w="9360">
              <a:solidFill>
                <a:srgbClr val="8383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495480" y="4411800"/>
            <a:ext cx="326880" cy="779760"/>
            <a:chOff x="6495480" y="4411800"/>
            <a:chExt cx="326880" cy="779760"/>
          </a:xfrm>
        </p:grpSpPr>
        <p:sp>
          <p:nvSpPr>
            <p:cNvPr id="540" name=""/>
            <p:cNvSpPr/>
            <p:nvPr/>
          </p:nvSpPr>
          <p:spPr>
            <a:xfrm>
              <a:off x="6495480" y="44118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95480" y="47926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383ad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6497640" y="4800600"/>
            <a:ext cx="30492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83040" y="4572000"/>
            <a:ext cx="1295280" cy="45720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59360" y="464832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2154240" y="4800240"/>
            <a:ext cx="1828800" cy="22860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059360" y="609588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54040" y="4800600"/>
            <a:ext cx="6705360" cy="1676520"/>
            <a:chOff x="554040" y="4800600"/>
            <a:chExt cx="6705360" cy="1676520"/>
          </a:xfrm>
        </p:grpSpPr>
        <p:sp>
          <p:nvSpPr>
            <p:cNvPr id="548" name=""/>
            <p:cNvSpPr/>
            <p:nvPr/>
          </p:nvSpPr>
          <p:spPr>
            <a:xfrm>
              <a:off x="5278320" y="50292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83040" y="6019920"/>
              <a:ext cx="1295280" cy="457200"/>
            </a:xfrm>
            <a:prstGeom prst="rect">
              <a:avLst/>
            </a:prstGeom>
            <a:noFill/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4040" y="48006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8383a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246800" y="3995640"/>
            <a:ext cx="354600" cy="45972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792920" y="3962520"/>
            <a:ext cx="1219320" cy="30456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757640" y="395748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Agent/TCPSink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7564320" y="4114800"/>
            <a:ext cx="228600" cy="76320"/>
          </a:xfrm>
          <a:prstGeom prst="line">
            <a:avLst/>
          </a:prstGeom>
          <a:ln w="936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672720" y="3652920"/>
            <a:ext cx="5460480" cy="318240"/>
            <a:chOff x="3672720" y="3652920"/>
            <a:chExt cx="5460480" cy="318240"/>
          </a:xfrm>
        </p:grpSpPr>
        <p:sp>
          <p:nvSpPr>
            <p:cNvPr id="556" name=""/>
            <p:cNvSpPr/>
            <p:nvPr/>
          </p:nvSpPr>
          <p:spPr>
            <a:xfrm>
              <a:off x="3672720" y="36640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60560" y="36529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383ad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934920" y="2895480"/>
            <a:ext cx="7327800" cy="1905120"/>
            <a:chOff x="934920" y="2895480"/>
            <a:chExt cx="7327800" cy="1905120"/>
          </a:xfrm>
        </p:grpSpPr>
        <p:sp>
          <p:nvSpPr>
            <p:cNvPr id="559" name=""/>
            <p:cNvSpPr/>
            <p:nvPr/>
          </p:nvSpPr>
          <p:spPr>
            <a:xfrm>
              <a:off x="934920" y="29462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8383a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72160" y="28954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8383a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3998880" y="3417840"/>
            <a:ext cx="1355760" cy="304920"/>
          </a:xfrm>
          <a:prstGeom prst="ellipse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41280" y="3424320"/>
            <a:ext cx="14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83ad"/>
                </a:solidFill>
                <a:latin typeface="Tahoma"/>
              </a:rPr>
              <a:t>Application/FTP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4287960" y="3733920"/>
            <a:ext cx="380880" cy="304560"/>
          </a:xfrm>
          <a:prstGeom prst="line">
            <a:avLst/>
          </a:prstGeom>
          <a:ln w="9360">
            <a:solidFill>
              <a:srgbClr val="8383a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20920" y="3809880"/>
            <a:ext cx="304920" cy="15264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63720" y="3352680"/>
            <a:ext cx="304920" cy="15264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154240" y="3124080"/>
            <a:ext cx="304920" cy="15264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68440" y="3048120"/>
            <a:ext cx="30492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34920" y="3352680"/>
            <a:ext cx="304920" cy="15264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82640" y="3886200"/>
            <a:ext cx="30492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6320" y="4419720"/>
            <a:ext cx="30492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68440" y="4572000"/>
            <a:ext cx="30492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30560" y="4800600"/>
            <a:ext cx="30456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16360" y="4724280"/>
            <a:ext cx="304560" cy="15264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4648320"/>
            <a:ext cx="30456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16560" y="4495680"/>
            <a:ext cx="304560" cy="15264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202360" y="4572000"/>
            <a:ext cx="30456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16760" y="4572000"/>
            <a:ext cx="30456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878520" y="4114800"/>
            <a:ext cx="304920" cy="15228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869240" y="3809880"/>
            <a:ext cx="304920" cy="152640"/>
          </a:xfrm>
          <a:prstGeom prst="rect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250120" y="35812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792920" y="33526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35720" y="31240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02560" y="297180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116760" y="297180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59560" y="33526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45360" y="44956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659560" y="44197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83240" y="39625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311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183440" y="54100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31160" y="480060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739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040440" y="60199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83240" y="60199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592520" y="60199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6021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449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877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305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7733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3161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589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01760" y="60199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01760" y="44956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01760" y="525780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97040" y="44956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34920" y="44956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59160" y="40384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144960" y="38098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220920" y="3581280"/>
            <a:ext cx="304920" cy="381240"/>
            <a:chOff x="3220920" y="3581280"/>
            <a:chExt cx="304920" cy="381240"/>
          </a:xfrm>
        </p:grpSpPr>
        <p:sp>
          <p:nvSpPr>
            <p:cNvPr id="611" name=""/>
            <p:cNvSpPr/>
            <p:nvPr/>
          </p:nvSpPr>
          <p:spPr>
            <a:xfrm>
              <a:off x="3220920" y="3581280"/>
              <a:ext cx="304920" cy="152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220920" y="3809880"/>
              <a:ext cx="304920" cy="152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8383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28000" cy="12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176"/>
                </a:solidFill>
                <a:latin typeface="Arial"/>
              </a:rPr>
              <a:t>Summary: Generic Script Structure</a:t>
            </a:r>
            <a:endParaRPr b="0" lang="en-US" sz="4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[Turn on tracing]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Create topology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Setup packet loss, link dynamic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Create routing agen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Create: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  - multicast group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  - protocol agent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  - application and/or setup traffic source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Post-processing procs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# Start simulati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Example - TCP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mple scenario with TCP and UDP connection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600200" y="3352680"/>
            <a:ext cx="30492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00200" y="4952880"/>
            <a:ext cx="304920" cy="304920"/>
          </a:xfrm>
          <a:prstGeom prst="ellipse">
            <a:avLst/>
          </a:prstGeom>
          <a:solidFill>
            <a:srgbClr val="404176"/>
          </a:solidFill>
          <a:ln w="9360">
            <a:solidFill>
              <a:srgbClr val="c09e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352680" y="426708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715000" y="4267080"/>
            <a:ext cx="304920" cy="304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15200" y="4952880"/>
            <a:ext cx="304920" cy="3049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238880" y="3352680"/>
            <a:ext cx="304920" cy="3049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905120" y="4419360"/>
            <a:ext cx="1447560" cy="68580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905120" y="3581280"/>
            <a:ext cx="1447560" cy="8384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4419720"/>
            <a:ext cx="205740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6019920" y="3580920"/>
            <a:ext cx="1218960" cy="8384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19920" y="4419720"/>
            <a:ext cx="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19920" y="4419720"/>
            <a:ext cx="1295280" cy="6094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983240" y="2895480"/>
            <a:ext cx="7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n0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CP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970280" y="5137200"/>
            <a:ext cx="65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Verdana"/>
              </a:rPr>
              <a:t>n4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Verdana"/>
              </a:rPr>
              <a:t>UDP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506760" y="3809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n1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624280" y="3774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n2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65400" y="3048120"/>
            <a:ext cx="7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Verdana"/>
              </a:rPr>
              <a:t>n5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Verdana"/>
              </a:rPr>
              <a:t>UDP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Verdana"/>
              </a:rPr>
              <a:t>recvr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529760" y="514656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n3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TCPSink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253040" y="4460760"/>
            <a:ext cx="98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1.5Mb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10m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602000" y="3962520"/>
            <a:ext cx="7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5Mb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2m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781680" y="39625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5Mb2m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CP : Step 1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cheduler &amp; tracing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#Create scheduler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et ns [new Simulator]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#Turn on trac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et f [open out.tr w]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$ns trace-all $f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et nf [open out.nam w]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$ns namtrace-all $nf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CP : Step 2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reate topology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#create node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n0 [$ns node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n1 [$ns node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n3 [$ns node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et n4 [$ns node]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What Is NS?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tarted as REAL in 1989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iscrete event, packet level simulato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ritten in C++ with Otcl fronten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ired, wireless and emulation mod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ink layer and up for most wire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dditional lower layers for wireles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CP : Step 3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#create link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duplex-link $n0 $n1 5Mb 2ms DropTai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duplex-link $n1 $n2 1.5Mb 10ms DropTai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duplex-link $n2 $n3 5Mb 2ms DropTai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queue-limit $n1 $n2 25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$ns queue-limit $n2 $n1 25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CP : Step 4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reate TCP agents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t tcp [new Agent/TCP]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t sink [new Agent/TCPSink]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$ns attach-agent $n0 $tc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$ns attach-agent $n3 $sin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$ns connect $tcp $sink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CP : Step 5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ttach traffic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t ftp [new Application/FTP]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$ftp attach-agent $tcp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#start application traffic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$ns at 1.1 “$ftp start”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TCP : Step 6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End of simulation wrapper (as usua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$ns at 2.0 “finish”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roc finish {} {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global ns f nf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lose $f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close $nf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uts “Running nam…”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ec nam out.nam &amp;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exit 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$ns run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Viz Tool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am-1 (Network AniMator Version 1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acket-level anima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ell-supported by n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Xgraph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onvert trace output into xgraph forma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s-nam Interfac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Node manipul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ink manipul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opology layou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Protocol stat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isc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am Interface: Color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lor mapp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ns color 40 red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ns color 41 blu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ns color 42 chocolat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lor </a:t>
            </a:r>
            <a:r>
              <a:rPr b="0" lang="en-US" sz="3200" spc="-1" strike="noStrike">
                <a:solidFill>
                  <a:srgbClr val="8383ad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 flow id associ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tcp0 set fid_ 40</a:t>
            </a: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;# red packe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tcp1 set fid_ 41</a:t>
            </a: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;# blue packet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am Interface: Nod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ode color red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hape (can’t be changed after sim starts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ode shape box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;# circle, box, hexago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arks (concentric “shapes”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at 1.0 “$n0 add-mark m0 blue box”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at 2.0 “$n0 delete-mark m0”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abel (single string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at 1.1 “$n0 label \”web cache 0\””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am Interfaces: Link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duplex-link-op $n0 $n1 color "green"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ab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duplex-link-op $n0 $n1 label "abced"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Dynamics (automatically handled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rtmodel Deterministic {2.0 0.9 0.1} $n0 $n1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symmetric links not allowe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am Interface: Topo Layou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Manual” layout: specify everything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duplex-link-op $n(0) $n(1) orient righ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duplex-link-op $n(1) $n(2) orient right-up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duplex-link-op $n(2) $n(3) orient dow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duplex-link-op $n(3) $n(4) orient 60deg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If anything missing </a:t>
            </a:r>
            <a:r>
              <a:rPr b="0" lang="en-US" sz="3600" spc="-1" strike="noStrike">
                <a:solidFill>
                  <a:srgbClr val="8383ad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8383ad"/>
                </a:solidFill>
                <a:latin typeface="Arial"/>
              </a:rPr>
              <a:t> automatic layout</a:t>
            </a:r>
            <a:endParaRPr b="0" lang="en-US" sz="36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Platform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ost UNIX and UNIX-like system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Linu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reeBS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unOS/Solaris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P/SGI (with some tweaking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Windows 95/98/NT/ME/2000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ips on build availabl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However validation tests don’t wor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am Interface: Protocol Stat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Monitor values of agent variables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ns add-agent-trace $srm0 srm_agent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ns monitor-agent-trace $srm0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srm0 tracevar C1_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srm0 tracevar C2_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# … …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Courier New"/>
              </a:rPr>
              <a:t>$ns delete-agent-trace $tcp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Nam Interface: Misc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4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Annotation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dd textual explanation to your sim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at 3.5 "$ns trace-annotate \“packet drop\"“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t animation rate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ns at 0.0 "$ns set-animation-rate 0.1ms"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ther Utilities in 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am edito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vailable as part of nam-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cl debugge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or source and documentation, see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http://www.isi.edu/nsnam/ns/ns-debugging.htm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opology generato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http://www.isi.edu/nsnam/ns/ns-topogen.htm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Scenario generator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http://www.isi.edu/nsnam/ns/ns-scengeneration.htm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ther Ns Featur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ther areas in wired domai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LANs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iffserv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ulticast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Full TCP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pplications like web-cach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Wireless domai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d hoc rout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Mobile IP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atellite network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Directed diffusion (sensor networks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ther Ns Featur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Emulator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onnect simulator in a real networ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an receive and send out live packets from/into the real worl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s distribution download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http://www.isi.edu/nsnam/ns/ns-build.htm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Installation problems and bug-fix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http://www.isi.edu/nsnam/ns/ns-problems.htm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s-users mailing list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9e4a"/>
                </a:solidFill>
                <a:uFillTx/>
                <a:latin typeface="Arial"/>
                <a:hlinkClick r:id="rId4"/>
              </a:rPr>
              <a:t>Ns-users@isi.edu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See </a:t>
            </a:r>
            <a:r>
              <a:rPr b="0" lang="en-US" sz="2400" spc="-1" strike="noStrike" u="sng">
                <a:solidFill>
                  <a:srgbClr val="c09e4a"/>
                </a:solidFill>
                <a:uFillTx/>
                <a:latin typeface="Arial"/>
                <a:hlinkClick r:id="rId5"/>
              </a:rPr>
              <a:t>http://www.isi.edu/nsnam/ns/ns-lists.htm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Archives from above URL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Resources (contd..)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Marc Greis’ tutori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http://www.isi.edu/nsnam/ns/tutoria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s-users archiv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Ns-manual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9e4a"/>
                </a:solidFill>
                <a:latin typeface="Arial"/>
              </a:rPr>
              <a:t>http://www.isi.edu/nsnam/ns/ns-documentation.html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Tcl (Tool Command Language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9e4a"/>
                </a:solidFill>
                <a:uFillTx/>
                <a:latin typeface="Arial"/>
                <a:hlinkClick r:id="rId5"/>
              </a:rPr>
              <a:t>http://dev.scriptics.com/scripting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Practical programming in Tcl and Tk, Brent Welch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Otcl (MIT Object Tcl)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Arial"/>
              </a:rPr>
              <a:t>~otcl/doc/tutorial.html (in distribution)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Architecture in NS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bject-oriented (C++ and Otcl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Algorithms over large data sets, per packet handling in C++ 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onfiguration, “one-time” stuff in Otcl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ast to run, quick to re-configur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383ad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Fine grained object composi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++ and OTcl Separation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++ for “data”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Per packet action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OTcl for contro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383ad"/>
                </a:solidFill>
                <a:latin typeface="Arial"/>
              </a:rPr>
              <a:t>Configuration, “one-time” task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ompromise between composibility and speed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383ad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Learning and debugging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OTcl and C++: The Duality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06640" y="1843200"/>
            <a:ext cx="3236760" cy="39621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88960" y="2557440"/>
            <a:ext cx="38124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17560" y="2252520"/>
            <a:ext cx="381240" cy="1526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22480" y="2557440"/>
            <a:ext cx="38088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717560" y="2405160"/>
            <a:ext cx="15264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22480" y="2405160"/>
            <a:ext cx="22860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81440" y="3828960"/>
            <a:ext cx="380880" cy="1526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52840" y="4133880"/>
            <a:ext cx="38088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62320" y="4133880"/>
            <a:ext cx="38088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67240" y="4438800"/>
            <a:ext cx="38088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57400" y="4438800"/>
            <a:ext cx="38124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804760" y="3981600"/>
            <a:ext cx="22860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86000" y="398160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3185640" y="4286160"/>
            <a:ext cx="228600" cy="1526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67240" y="4286160"/>
            <a:ext cx="228600" cy="15264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843200"/>
            <a:ext cx="3625920" cy="396216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89680" y="2489040"/>
            <a:ext cx="381240" cy="1526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18280" y="2184480"/>
            <a:ext cx="38124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423200" y="2489040"/>
            <a:ext cx="380880" cy="1526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7118280" y="2336760"/>
            <a:ext cx="15264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423200" y="2336760"/>
            <a:ext cx="22860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38840" y="3067200"/>
            <a:ext cx="38088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10240" y="3371760"/>
            <a:ext cx="380880" cy="1526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19720" y="3371760"/>
            <a:ext cx="380880" cy="15264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24640" y="3676680"/>
            <a:ext cx="38088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14800" y="3676680"/>
            <a:ext cx="381240" cy="152280"/>
          </a:xfrm>
          <a:prstGeom prst="rect">
            <a:avLst/>
          </a:prstGeom>
          <a:noFill/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862160" y="3219480"/>
            <a:ext cx="22860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43400" y="3219480"/>
            <a:ext cx="30492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5243040" y="3524400"/>
            <a:ext cx="22860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624640" y="3524400"/>
            <a:ext cx="228600" cy="15228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48840" y="52833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14480" y="52880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67240" y="3092400"/>
            <a:ext cx="167616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104" y="408"/>
                  <a:pt x="208" y="160"/>
                  <a:pt x="384" y="80"/>
                </a:cubicBezTo>
                <a:cubicBezTo>
                  <a:pt x="560" y="0"/>
                  <a:pt x="944" y="160"/>
                  <a:pt x="1056" y="176"/>
                </a:cubicBezTo>
              </a:path>
            </a:pathLst>
          </a:custGeom>
          <a:noFill/>
          <a:ln w="9360">
            <a:solidFill>
              <a:srgbClr val="8383ad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62320" y="3905280"/>
            <a:ext cx="2158920" cy="1028520"/>
          </a:xfrm>
          <a:custGeom>
            <a:avLst/>
            <a:gdLst/>
            <a:ahLst/>
            <a:rect l="l" t="t" r="r" b="b"/>
            <a:pathLst>
              <a:path w="1360" h="648">
                <a:moveTo>
                  <a:pt x="0" y="432"/>
                </a:moveTo>
                <a:cubicBezTo>
                  <a:pt x="472" y="540"/>
                  <a:pt x="944" y="648"/>
                  <a:pt x="1152" y="576"/>
                </a:cubicBezTo>
                <a:cubicBezTo>
                  <a:pt x="1360" y="504"/>
                  <a:pt x="1232" y="96"/>
                  <a:pt x="1248" y="0"/>
                </a:cubicBezTo>
              </a:path>
            </a:pathLst>
          </a:custGeom>
          <a:noFill/>
          <a:ln w="9360">
            <a:solidFill>
              <a:srgbClr val="8383ad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71800" y="3905280"/>
            <a:ext cx="2082960" cy="1028520"/>
          </a:xfrm>
          <a:custGeom>
            <a:avLst/>
            <a:gdLst/>
            <a:ahLst/>
            <a:rect l="l" t="t" r="r" b="b"/>
            <a:pathLst>
              <a:path w="1312" h="648">
                <a:moveTo>
                  <a:pt x="0" y="432"/>
                </a:moveTo>
                <a:cubicBezTo>
                  <a:pt x="448" y="540"/>
                  <a:pt x="896" y="648"/>
                  <a:pt x="1104" y="576"/>
                </a:cubicBezTo>
                <a:cubicBezTo>
                  <a:pt x="1312" y="504"/>
                  <a:pt x="1280" y="252"/>
                  <a:pt x="1248" y="0"/>
                </a:cubicBezTo>
              </a:path>
            </a:pathLst>
          </a:custGeom>
          <a:noFill/>
          <a:ln w="9360">
            <a:solidFill>
              <a:srgbClr val="8383ad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28800" y="3016080"/>
            <a:ext cx="1905120" cy="1117800"/>
          </a:xfrm>
          <a:custGeom>
            <a:avLst/>
            <a:gdLst/>
            <a:ahLst/>
            <a:rect l="l" t="t" r="r" b="b"/>
            <a:pathLst>
              <a:path w="1200" h="704">
                <a:moveTo>
                  <a:pt x="0" y="704"/>
                </a:moveTo>
                <a:cubicBezTo>
                  <a:pt x="68" y="432"/>
                  <a:pt x="136" y="160"/>
                  <a:pt x="336" y="80"/>
                </a:cubicBezTo>
                <a:cubicBezTo>
                  <a:pt x="536" y="0"/>
                  <a:pt x="868" y="112"/>
                  <a:pt x="1200" y="224"/>
                </a:cubicBezTo>
              </a:path>
            </a:pathLst>
          </a:custGeom>
          <a:noFill/>
          <a:ln w="9360">
            <a:solidFill>
              <a:srgbClr val="8383ad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86000" y="2787480"/>
            <a:ext cx="167652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80" y="408"/>
                  <a:pt x="160" y="160"/>
                  <a:pt x="336" y="80"/>
                </a:cubicBezTo>
                <a:cubicBezTo>
                  <a:pt x="512" y="0"/>
                  <a:pt x="784" y="88"/>
                  <a:pt x="1056" y="176"/>
                </a:cubicBezTo>
              </a:path>
            </a:pathLst>
          </a:custGeom>
          <a:noFill/>
          <a:ln w="9360">
            <a:solidFill>
              <a:srgbClr val="8383ad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3640" y="2765520"/>
            <a:ext cx="1151640" cy="6426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Pure C++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7040" y="2725560"/>
            <a:ext cx="1218600" cy="6426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Pure OTcl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68800" y="4998960"/>
            <a:ext cx="2468520" cy="6426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83ad"/>
                </a:solidFill>
                <a:latin typeface="Tahoma"/>
              </a:rPr>
              <a:t>C++/OTcl split objects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14400" y="1654200"/>
            <a:ext cx="7504200" cy="46926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11640" y="5904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asic tcl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a 4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b 27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proc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test { a b } {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c [expr $a + $b]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d [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[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$a - $b] * $c]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k 0} {$k &lt; 10} {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incr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k} {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{$k &lt; 5} {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“k &lt; 5, pow = [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pow($d, $k)]”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“k &gt;= 5, mod = [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$d % $k]”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Basic OTcl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Mo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Mom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instproc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greet {} {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lf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instvar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age_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“$age_ years old mom: How are you doing?”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Kid -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uperclass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Mom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Kid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instproc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greet {} {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lf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instvar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age_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“$age_ years old kid: What’s up, dude?”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mom [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Mom]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mom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age_ 45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kid [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Kid]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kid </a:t>
            </a:r>
            <a:r>
              <a:rPr b="1" lang="en-US" sz="2000" spc="-1" strike="noStrike">
                <a:solidFill>
                  <a:srgbClr val="8383ad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 age_ 15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mom gre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383ad"/>
                </a:solidFill>
                <a:latin typeface="Courier New"/>
              </a:rPr>
              <a:t>$kid greet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22:30:25Z</dcterms:created>
  <dc:creator>USC/ISI</dc:creator>
  <dc:description/>
  <dc:language>en-US</dc:language>
  <cp:lastModifiedBy>Administrator</cp:lastModifiedBy>
  <dcterms:modified xsi:type="dcterms:W3CDTF">2002-09-03T21:34:13Z</dcterms:modified>
  <cp:revision>45</cp:revision>
  <dc:subject/>
  <dc:title>NS TUTORIAL</dc:title>
</cp:coreProperties>
</file>