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15DC-B756-4B1E-B79F-73CE78FD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DE58-7399-400B-A3AD-39C65B3B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99E7-7028-4A86-837E-75D6180E7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3711-327E-4648-8663-8E3330637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9B39-2C1E-4C26-B444-86FC27F0E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2EA0-907B-4D68-AB0A-AA4C887E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A702-060C-4C43-8249-0D965E84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B521-C4D7-4F1E-B14E-6C0E043E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2C07-1A82-40DA-B23A-F159F5A8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9599-265E-49EB-AE19-58C02131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83AA-133E-484E-BBE7-AA02C037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9442-77BB-4AF9-A1B3-A580363E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AAC9-4449-4436-8419-20B9B369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18DC-22BE-462A-A56F-0BC6D014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F275-930C-4D43-A278-9742DCDD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59DA-38B1-4EB0-8911-EDE8C5A76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70C7-05E1-4479-A43A-6C70FA36F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87E9-3647-4E1B-8752-B6A8CCF5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6F95-7470-4C3A-A26A-96036F8F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77F4-3203-41B8-A61E-31A89F88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838B-3A92-4B9E-AF87-A79A3F55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5EE8-8B79-47C4-A772-B61FCD7E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61AA-B446-4BAB-BEBE-AA3E9535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CC1A-75E8-4918-92E7-360AB287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833C-ECB5-446E-A4FE-629482C5DB94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100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0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1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0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9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7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8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7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6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5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5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4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3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2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9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8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9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8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5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7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8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B783-A24F-44DB-BB8F-3F18899BA1DD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mailto:Ns-users@isi.edu" TargetMode="External"/><Relationship Id="rId5" Type="http://schemas.openxmlformats.org/officeDocument/2006/relationships/hyperlink" Target="http://www.isi.edu/nsnam/ns/ns-lists.html" TargetMode="External"/><Relationship Id="rId6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hyperlink" Target="http://dev.scriptics.com/scripting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NS TUTORIAL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Padma Halda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haldar@isi.edu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USC/ISI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09/04/02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Hello World - Interactive Mod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Courier New"/>
              </a:rPr>
              <a:t>swallow 71% </a:t>
            </a:r>
            <a:r>
              <a:rPr b="1" lang="en-US" sz="2400" spc="-1" strike="noStrike">
                <a:solidFill>
                  <a:srgbClr val="8383ad"/>
                </a:solidFill>
                <a:latin typeface="Courier New"/>
              </a:rPr>
              <a:t>n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3ad"/>
                </a:solidFill>
                <a:latin typeface="Courier New"/>
              </a:rPr>
              <a:t>% set ns [new Simulator]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Courier New"/>
              </a:rPr>
              <a:t>_o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3ad"/>
                </a:solidFill>
                <a:latin typeface="Courier New"/>
              </a:rPr>
              <a:t>% $ns at 1 “puts \“Hello World!\””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3ad"/>
                </a:solidFill>
                <a:latin typeface="Courier New"/>
              </a:rPr>
              <a:t>% $ns at 1.5 “exit”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3ad"/>
                </a:solidFill>
                <a:latin typeface="Courier New"/>
              </a:rPr>
              <a:t>% $ns ru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Courier New"/>
              </a:rPr>
              <a:t>Hello World!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Courier New"/>
              </a:rPr>
              <a:t>swallow 72%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Hello World - Batch Mod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Courier New"/>
              </a:rPr>
              <a:t>simple.tc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3ad"/>
                </a:solidFill>
                <a:latin typeface="Courier New"/>
              </a:rPr>
              <a:t>set ns [new Simulator]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3ad"/>
                </a:solidFill>
                <a:latin typeface="Courier New"/>
              </a:rPr>
              <a:t>$ns at 1 “puts \“Hello World!\””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3ad"/>
                </a:solidFill>
                <a:latin typeface="Courier New"/>
              </a:rPr>
              <a:t>$ns at 1.5 “exit”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3ad"/>
                </a:solidFill>
                <a:latin typeface="Courier New"/>
              </a:rPr>
              <a:t>$ns ru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Courier New"/>
              </a:rPr>
              <a:t>swallow 74% </a:t>
            </a:r>
            <a:r>
              <a:rPr b="1" lang="en-US" sz="2800" spc="-1" strike="noStrike">
                <a:solidFill>
                  <a:srgbClr val="8383ad"/>
                </a:solidFill>
                <a:latin typeface="Courier New"/>
              </a:rPr>
              <a:t>ns simple.tc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Courier New"/>
              </a:rPr>
              <a:t>Hello World!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Courier New"/>
              </a:rPr>
              <a:t>swallow 75%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vent Driven Simul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cheduler – main controller of event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cheduler clock - simulator virtual tim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[$ns_ now] returns the current simulator tim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vent queue - holds events in the order of their firing tim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vents have a firing time and a handler func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wo types of events possible – packets and “at-events”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Discrete Event Scheduler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133720" y="2384280"/>
            <a:ext cx="533160" cy="1407960"/>
            <a:chOff x="2133720" y="2384280"/>
            <a:chExt cx="533160" cy="1407960"/>
          </a:xfrm>
        </p:grpSpPr>
        <p:sp>
          <p:nvSpPr>
            <p:cNvPr id="450" name=""/>
            <p:cNvSpPr/>
            <p:nvPr/>
          </p:nvSpPr>
          <p:spPr>
            <a:xfrm>
              <a:off x="2133720" y="2384280"/>
              <a:ext cx="533160" cy="28152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133720" y="2665800"/>
              <a:ext cx="533160" cy="28152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33720" y="2947320"/>
              <a:ext cx="533160" cy="28152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3229200"/>
              <a:ext cx="533160" cy="28152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133720" y="3510720"/>
              <a:ext cx="533160" cy="28152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3862440" y="1538280"/>
            <a:ext cx="4056120" cy="45972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time_, uid_, next_, handler_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32040" y="2224080"/>
            <a:ext cx="1734480" cy="418680"/>
            <a:chOff x="932040" y="2224080"/>
            <a:chExt cx="1734480" cy="418680"/>
          </a:xfrm>
        </p:grpSpPr>
        <p:sp>
          <p:nvSpPr>
            <p:cNvPr id="457" name=""/>
            <p:cNvSpPr/>
            <p:nvPr/>
          </p:nvSpPr>
          <p:spPr>
            <a:xfrm>
              <a:off x="2133360" y="2360880"/>
              <a:ext cx="533160" cy="281880"/>
            </a:xfrm>
            <a:prstGeom prst="rect">
              <a:avLst/>
            </a:pr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932040" y="2224080"/>
              <a:ext cx="122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383ad"/>
                  </a:solidFill>
                  <a:latin typeface="Tahoma"/>
                </a:rPr>
                <a:t>Head_ -&gt;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133720" y="2841480"/>
            <a:ext cx="533160" cy="281160"/>
          </a:xfrm>
          <a:prstGeom prst="rect">
            <a:avLst/>
          </a:prstGeom>
          <a:solidFill>
            <a:srgbClr val="ffff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133720" y="3527280"/>
            <a:ext cx="533160" cy="28116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4375800" y="2004480"/>
            <a:ext cx="3030480" cy="993240"/>
            <a:chOff x="4375800" y="2004480"/>
            <a:chExt cx="3030480" cy="993240"/>
          </a:xfrm>
        </p:grpSpPr>
        <p:sp>
          <p:nvSpPr>
            <p:cNvPr id="462" name=""/>
            <p:cNvSpPr/>
            <p:nvPr/>
          </p:nvSpPr>
          <p:spPr>
            <a:xfrm>
              <a:off x="4375800" y="2538000"/>
              <a:ext cx="30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383ad"/>
                  </a:solidFill>
                  <a:latin typeface="Tahoma"/>
                </a:rPr>
                <a:t>handler_ -&gt; handle()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cxnSp>
          <p:nvCxnSpPr>
            <p:cNvPr id="463" name=""/>
            <p:cNvCxnSpPr>
              <a:stCxn id="455" idx="2"/>
              <a:endCxn id="462" idx="0"/>
            </p:cNvCxnSpPr>
            <p:nvPr/>
          </p:nvCxnSpPr>
          <p:spPr>
            <a:xfrm>
              <a:off x="5890680" y="2004480"/>
              <a:ext cx="1080" cy="533880"/>
            </a:xfrm>
            <a:prstGeom prst="straightConnector1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</p:cxnSp>
      </p:grpSp>
      <p:grpSp>
        <p:nvGrpSpPr>
          <p:cNvPr id="464" name=""/>
          <p:cNvGrpSpPr/>
          <p:nvPr/>
        </p:nvGrpSpPr>
        <p:grpSpPr>
          <a:xfrm>
            <a:off x="3862440" y="2895120"/>
            <a:ext cx="4056120" cy="1134360"/>
            <a:chOff x="3862440" y="2895120"/>
            <a:chExt cx="4056120" cy="1134360"/>
          </a:xfrm>
        </p:grpSpPr>
        <p:sp>
          <p:nvSpPr>
            <p:cNvPr id="465" name=""/>
            <p:cNvSpPr/>
            <p:nvPr/>
          </p:nvSpPr>
          <p:spPr>
            <a:xfrm>
              <a:off x="3862440" y="3569760"/>
              <a:ext cx="40561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383ad"/>
                  </a:solidFill>
                  <a:latin typeface="Tahoma"/>
                </a:rPr>
                <a:t>time_, uid_, next_, handler_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948640" y="2942280"/>
              <a:ext cx="1839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cxnSp>
          <p:nvCxnSpPr>
            <p:cNvPr id="467" name=""/>
            <p:cNvCxnSpPr>
              <a:stCxn id="462" idx="2"/>
              <a:endCxn id="465" idx="0"/>
            </p:cNvCxnSpPr>
            <p:nvPr/>
          </p:nvCxnSpPr>
          <p:spPr>
            <a:xfrm>
              <a:off x="5891040" y="2895120"/>
              <a:ext cx="1080" cy="675000"/>
            </a:xfrm>
            <a:prstGeom prst="straightConnector1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</p:cxnSp>
      </p:grpSp>
      <p:cxnSp>
        <p:nvCxnSpPr>
          <p:cNvPr id="468" name=""/>
          <p:cNvCxnSpPr>
            <a:stCxn id="457" idx="3"/>
            <a:endCxn id="455" idx="1"/>
          </p:cNvCxnSpPr>
          <p:nvPr/>
        </p:nvCxnSpPr>
        <p:spPr>
          <a:xfrm flipV="1">
            <a:off x="2666520" y="1770840"/>
            <a:ext cx="1220040" cy="731160"/>
          </a:xfrm>
          <a:prstGeom prst="straightConnector1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</p:cxnSp>
      <p:grpSp>
        <p:nvGrpSpPr>
          <p:cNvPr id="469" name=""/>
          <p:cNvGrpSpPr/>
          <p:nvPr/>
        </p:nvGrpSpPr>
        <p:grpSpPr>
          <a:xfrm>
            <a:off x="2666520" y="2955600"/>
            <a:ext cx="1219320" cy="973440"/>
            <a:chOff x="2666520" y="2955600"/>
            <a:chExt cx="1219320" cy="973440"/>
          </a:xfrm>
        </p:grpSpPr>
        <p:sp>
          <p:nvSpPr>
            <p:cNvPr id="470" name=""/>
            <p:cNvSpPr/>
            <p:nvPr/>
          </p:nvSpPr>
          <p:spPr>
            <a:xfrm>
              <a:off x="2742480" y="353016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383ad"/>
                  </a:solidFill>
                  <a:latin typeface="Times New Roman"/>
                </a:rPr>
                <a:t>Insert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cxnSp>
          <p:nvCxnSpPr>
            <p:cNvPr id="471" name=""/>
            <p:cNvCxnSpPr>
              <a:stCxn id="465" idx="1"/>
              <a:endCxn id="459" idx="3"/>
            </p:cNvCxnSpPr>
            <p:nvPr/>
          </p:nvCxnSpPr>
          <p:spPr>
            <a:xfrm flipH="1" flipV="1">
              <a:off x="2666520" y="2955600"/>
              <a:ext cx="1219680" cy="887760"/>
            </a:xfrm>
            <a:prstGeom prst="straightConnector1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</p:cxnSp>
      </p:grpSp>
      <p:sp>
        <p:nvSpPr>
          <p:cNvPr id="472" name=""/>
          <p:cNvSpPr/>
          <p:nvPr/>
        </p:nvSpPr>
        <p:spPr>
          <a:xfrm>
            <a:off x="762120" y="3959280"/>
            <a:ext cx="4572000" cy="29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our types of scheduler: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25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List: simple linked list, order-preserving, O(N)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25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Heap: O(logN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25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Calendar: hash-based, fastest, default, O(1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25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Real-time: subclass of list, sync with real-time, O(N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982520" y="1309680"/>
            <a:ext cx="97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Event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Queu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956320" y="216216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Dequ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04080" y="200988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Dispatch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80040" y="30765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Reschedul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lements of Ns-2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reate the event schedule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[Turn on tracing]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reate network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tup routing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nsert error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reate transport connec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reate traffic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reating Event Scheduler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reate event schedule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t ns [new Simulator]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chedule event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ns at &lt;time&gt; &lt;event&gt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&lt;event&gt;: any legitimate ns/tcl command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art schedule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ns ru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racing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race packets on all link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ns trace-all [open test.out w]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&lt;event&gt; &lt;time&gt; &lt;from&gt; &lt;to&gt; &lt;pkt&gt; &lt;size&gt; -- &lt;fid&gt; &lt;src&gt; &lt;dst&gt; &lt;seq&gt; &lt;attr&gt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+ 1 0 2 cbr 210 ------- 0 0.0 3.1 0 0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- 1 0 2 cbr 210 ------- 0 0.0 3.1 0 0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r 1.00234 0 2 cbr 210 ------- 0 0.0 3.1 0 0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race packets on all links in nam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ns namtrace-all [open test.nam w]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ns namtrace-all-wireless [open wtest.nam w]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racing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urn on tracing on specific link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ns trace-queue $n0 $n1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ns namtrace-queue $n0 $n1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050"/>
                </a:solidFill>
                <a:latin typeface="Arial"/>
              </a:rPr>
              <a:t>Trace-all commands must appear immediately after creating scheduler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racing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vent tracing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ns eventtrace-all [$file]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dd eventtrace </a:t>
            </a:r>
            <a:r>
              <a:rPr b="0" i="1" lang="en-US" sz="2800" spc="-1" strike="noStrike">
                <a:solidFill>
                  <a:srgbClr val="8383ad"/>
                </a:solidFill>
                <a:latin typeface="Arial"/>
              </a:rPr>
              <a:t>after 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race-all as trace-all file is used as defaul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xample script: ~ns/tcl/ex/tcp-et.tc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reating Network Topolog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od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t n0 [$ns node]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t n1 [$ns node]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inks and queuing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ns duplex-link $n0 $n1 &lt;bandwidth&gt; &lt;delay&gt; &lt;queue_type&gt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&lt;queue_type&gt;: DropTail, RED, CBQ, FQ, SFQ, DRR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ns duplex-link $n0 $n1 5Mb 2ms DropTai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utorial Outl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Part I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383a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NS fundamental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383a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Wired world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383a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Walk-thru an example NS scrip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Part II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383a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Visualization tools &amp; other utiliti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383a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Help and referenc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nserting Err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reating Error Modul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t loss_module [new ErrorModel]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loss_module set rate_ 0.01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loss_module unit pk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loss_module ranvar [new RandomVariable/Uniform]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loss_module drop-target [new Agent/Null]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nserting Error Modul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ns lossmodel $loss_module $n0 $n1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Network Dynamic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ink failur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Hooks in routing module to reflect routing chang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 model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ns rtmodel Trace &lt;config_file&gt; $n0 $n1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ns rtmodel Exponential {&lt;params&gt;} $n0 $n1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ns rtmodel Deterministic {&lt;params&gt;} $n0 $n1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ns rtmodel-at &lt;time&gt; up|down $n0 $n1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Parameter lis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[&lt;start&gt;] &lt;up_interval&gt; &lt;down_interval&gt; [&lt;finish&gt;]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etup Routing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Unicas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ns rtproto &lt;type&gt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&lt;type&gt;: Static, Session, DV, LS, Manual or hierarchica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Multicas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ns multicast (right after [new Simulator]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ns mrtproto &lt;type&gt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&lt;type&gt;: CtrMcast, DM, ST, BS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reating Connection: TCP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One-way TCP sending agent [Tahoe, Reno, NewReno, Sack, Vegas and Fack]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t tcp [new Agent/TCP]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t tcpsink [new Agent/TCPSink]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ns attach-agent $n0 $tcp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ns attach-agent $n1 $tcpsink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ns connect $tcp $tcpsink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176"/>
                </a:solidFill>
                <a:latin typeface="Arial"/>
              </a:rPr>
              <a:t>Creating Traffic: On Top of TCP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TP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t ftp [new Application/FTP]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ftp attach-agent $tcp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elne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t telnet [new Application/Telnet]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telnet attach-agent $tcp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lumbing: Packet Flow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842480" y="4411800"/>
            <a:ext cx="326880" cy="779760"/>
            <a:chOff x="1842480" y="4411800"/>
            <a:chExt cx="326880" cy="779760"/>
          </a:xfrm>
        </p:grpSpPr>
        <p:sp>
          <p:nvSpPr>
            <p:cNvPr id="501" name=""/>
            <p:cNvSpPr/>
            <p:nvPr/>
          </p:nvSpPr>
          <p:spPr>
            <a:xfrm>
              <a:off x="1842480" y="44118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383ad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42480" y="47926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383ad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2835360" y="2743200"/>
            <a:ext cx="3657600" cy="144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44640" y="2286000"/>
            <a:ext cx="990720" cy="91440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492960" y="2286000"/>
            <a:ext cx="990360" cy="91440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045880" y="25480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n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694200" y="25480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n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082520" y="3962520"/>
            <a:ext cx="115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ahoma"/>
              </a:rPr>
              <a:t>Addr Classifier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768320" y="3429000"/>
            <a:ext cx="115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ahoma"/>
              </a:rPr>
              <a:t>Port Classifier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22800" y="4871880"/>
            <a:ext cx="698760" cy="3070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ahoma"/>
              </a:rPr>
              <a:t>entry_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49360" y="2666880"/>
            <a:ext cx="3352320" cy="3353040"/>
            <a:chOff x="549360" y="2666880"/>
            <a:chExt cx="3352320" cy="3353040"/>
          </a:xfrm>
        </p:grpSpPr>
        <p:sp>
          <p:nvSpPr>
            <p:cNvPr id="512" name=""/>
            <p:cNvSpPr/>
            <p:nvPr/>
          </p:nvSpPr>
          <p:spPr>
            <a:xfrm>
              <a:off x="1844640" y="4343400"/>
              <a:ext cx="30420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606400" y="380988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234800" y="3429000"/>
              <a:ext cx="2666880" cy="2590920"/>
            </a:xfrm>
            <a:prstGeom prst="ellipse">
              <a:avLst/>
            </a:pr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082520" y="4648320"/>
              <a:ext cx="304560" cy="304560"/>
            </a:xfrm>
            <a:prstGeom prst="ellipse">
              <a:avLst/>
            </a:prstGeom>
            <a:solidFill>
              <a:srgbClr val="fefed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9360" y="4800600"/>
              <a:ext cx="53316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387440" y="4800600"/>
              <a:ext cx="45684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2149200" y="4266720"/>
              <a:ext cx="456840" cy="2286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1310760" y="2666880"/>
              <a:ext cx="533160" cy="1600200"/>
            </a:xfrm>
            <a:prstGeom prst="line">
              <a:avLst/>
            </a:prstGeom>
            <a:ln w="936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835000" y="2666880"/>
              <a:ext cx="838080" cy="1295640"/>
            </a:xfrm>
            <a:prstGeom prst="line">
              <a:avLst/>
            </a:prstGeom>
            <a:ln w="936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1844640" y="4800600"/>
            <a:ext cx="30492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598480" y="3995640"/>
            <a:ext cx="354600" cy="45972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44960" y="3962520"/>
            <a:ext cx="1218960" cy="30456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256200" y="396864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ahoma"/>
              </a:rPr>
              <a:t>Agent/TCP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2916360" y="4114800"/>
            <a:ext cx="228600" cy="7632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35520" y="396252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ahoma"/>
              </a:rPr>
              <a:t>Addr Classifier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421320" y="342900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ahoma"/>
              </a:rPr>
              <a:t>Port Classifier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275800" y="4871880"/>
            <a:ext cx="698760" cy="3070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ahoma"/>
              </a:rPr>
              <a:t>entry_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5202360" y="2666880"/>
            <a:ext cx="3352320" cy="3353040"/>
            <a:chOff x="5202360" y="2666880"/>
            <a:chExt cx="3352320" cy="3353040"/>
          </a:xfrm>
        </p:grpSpPr>
        <p:sp>
          <p:nvSpPr>
            <p:cNvPr id="530" name=""/>
            <p:cNvSpPr/>
            <p:nvPr/>
          </p:nvSpPr>
          <p:spPr>
            <a:xfrm>
              <a:off x="6497640" y="4343400"/>
              <a:ext cx="30420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259400" y="380988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887800" y="3429000"/>
              <a:ext cx="2666880" cy="2590920"/>
            </a:xfrm>
            <a:prstGeom prst="ellipse">
              <a:avLst/>
            </a:pr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735520" y="4648320"/>
              <a:ext cx="304560" cy="304560"/>
            </a:xfrm>
            <a:prstGeom prst="ellipse">
              <a:avLst/>
            </a:prstGeom>
            <a:solidFill>
              <a:srgbClr val="fefed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202360" y="4800600"/>
              <a:ext cx="53316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40440" y="4800600"/>
              <a:ext cx="45684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6802200" y="4266720"/>
              <a:ext cx="456840" cy="2286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5963760" y="2666880"/>
              <a:ext cx="533160" cy="1600200"/>
            </a:xfrm>
            <a:prstGeom prst="line">
              <a:avLst/>
            </a:prstGeom>
            <a:ln w="936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88000" y="2666880"/>
              <a:ext cx="838080" cy="1295640"/>
            </a:xfrm>
            <a:prstGeom prst="line">
              <a:avLst/>
            </a:prstGeom>
            <a:ln w="936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6495480" y="4411800"/>
            <a:ext cx="326880" cy="779760"/>
            <a:chOff x="6495480" y="4411800"/>
            <a:chExt cx="326880" cy="779760"/>
          </a:xfrm>
        </p:grpSpPr>
        <p:sp>
          <p:nvSpPr>
            <p:cNvPr id="540" name=""/>
            <p:cNvSpPr/>
            <p:nvPr/>
          </p:nvSpPr>
          <p:spPr>
            <a:xfrm>
              <a:off x="6495480" y="44118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383ad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495480" y="47926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383ad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6497640" y="4800600"/>
            <a:ext cx="30492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983040" y="4572000"/>
            <a:ext cx="1295280" cy="45720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059360" y="4648320"/>
            <a:ext cx="113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ahoma"/>
              </a:rPr>
              <a:t>Link n0-n1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2154240" y="4800240"/>
            <a:ext cx="1828800" cy="2286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059360" y="6095880"/>
            <a:ext cx="113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ahoma"/>
              </a:rPr>
              <a:t>Link n1-n0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54040" y="4800600"/>
            <a:ext cx="6705360" cy="1676520"/>
            <a:chOff x="554040" y="4800600"/>
            <a:chExt cx="6705360" cy="1676520"/>
          </a:xfrm>
        </p:grpSpPr>
        <p:sp>
          <p:nvSpPr>
            <p:cNvPr id="548" name=""/>
            <p:cNvSpPr/>
            <p:nvPr/>
          </p:nvSpPr>
          <p:spPr>
            <a:xfrm>
              <a:off x="5278320" y="5029200"/>
              <a:ext cx="1981080" cy="1219320"/>
            </a:xfrm>
            <a:custGeom>
              <a:avLst/>
              <a:gdLst/>
              <a:ahLst/>
              <a:rect l="l" t="t" r="r" b="b"/>
              <a:pathLst>
                <a:path w="1248" h="768">
                  <a:moveTo>
                    <a:pt x="960" y="0"/>
                  </a:moveTo>
                  <a:lnTo>
                    <a:pt x="1248" y="0"/>
                  </a:lnTo>
                  <a:lnTo>
                    <a:pt x="1248" y="768"/>
                  </a:lnTo>
                  <a:lnTo>
                    <a:pt x="0" y="768"/>
                  </a:lnTo>
                </a:path>
              </a:pathLst>
            </a:custGeom>
            <a:noFill/>
            <a:ln w="9360">
              <a:solidFill>
                <a:srgbClr val="8383a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983040" y="6019920"/>
              <a:ext cx="1295280" cy="457200"/>
            </a:xfrm>
            <a:prstGeom prst="rect">
              <a:avLst/>
            </a:pr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54040" y="4800600"/>
              <a:ext cx="3504960" cy="144792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2208" y="912"/>
                  </a:move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7246800" y="3995640"/>
            <a:ext cx="354600" cy="45972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792920" y="3962520"/>
            <a:ext cx="1219320" cy="30456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757640" y="3957480"/>
            <a:ext cx="14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ahoma"/>
              </a:rPr>
              <a:t>Agent/TCPSink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7564320" y="4114800"/>
            <a:ext cx="228600" cy="7632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3672720" y="3652920"/>
            <a:ext cx="5460480" cy="318240"/>
            <a:chOff x="3672720" y="3652920"/>
            <a:chExt cx="5460480" cy="318240"/>
          </a:xfrm>
        </p:grpSpPr>
        <p:sp>
          <p:nvSpPr>
            <p:cNvPr id="556" name=""/>
            <p:cNvSpPr/>
            <p:nvPr/>
          </p:nvSpPr>
          <p:spPr>
            <a:xfrm>
              <a:off x="3672720" y="366408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Tahoma"/>
                </a:rPr>
                <a:t>dst_=1.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260560" y="365292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Tahoma"/>
                </a:rPr>
                <a:t>dst_=0.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934920" y="2895480"/>
            <a:ext cx="7327800" cy="1905120"/>
            <a:chOff x="934920" y="2895480"/>
            <a:chExt cx="7327800" cy="1905120"/>
          </a:xfrm>
        </p:grpSpPr>
        <p:sp>
          <p:nvSpPr>
            <p:cNvPr id="559" name=""/>
            <p:cNvSpPr/>
            <p:nvPr/>
          </p:nvSpPr>
          <p:spPr>
            <a:xfrm>
              <a:off x="934920" y="2946240"/>
              <a:ext cx="2590920" cy="1854360"/>
            </a:xfrm>
            <a:custGeom>
              <a:avLst/>
              <a:gdLst/>
              <a:ahLst/>
              <a:rect l="l" t="t" r="r" b="b"/>
              <a:pathLst>
                <a:path w="1880" h="1168">
                  <a:moveTo>
                    <a:pt x="1880" y="640"/>
                  </a:moveTo>
                  <a:cubicBezTo>
                    <a:pt x="1684" y="464"/>
                    <a:pt x="1488" y="288"/>
                    <a:pt x="1208" y="208"/>
                  </a:cubicBezTo>
                  <a:cubicBezTo>
                    <a:pt x="928" y="128"/>
                    <a:pt x="400" y="0"/>
                    <a:pt x="200" y="160"/>
                  </a:cubicBezTo>
                  <a:cubicBezTo>
                    <a:pt x="0" y="320"/>
                    <a:pt x="4" y="744"/>
                    <a:pt x="8" y="1168"/>
                  </a:cubicBezTo>
                </a:path>
              </a:pathLst>
            </a:custGeom>
            <a:noFill/>
            <a:ln w="9360">
              <a:solidFill>
                <a:srgbClr val="8383a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672160" y="2895480"/>
              <a:ext cx="2590560" cy="1854360"/>
            </a:xfrm>
            <a:custGeom>
              <a:avLst/>
              <a:gdLst/>
              <a:ahLst/>
              <a:rect l="l" t="t" r="r" b="b"/>
              <a:pathLst>
                <a:path w="1880" h="1168">
                  <a:moveTo>
                    <a:pt x="1880" y="640"/>
                  </a:moveTo>
                  <a:cubicBezTo>
                    <a:pt x="1684" y="464"/>
                    <a:pt x="1488" y="288"/>
                    <a:pt x="1208" y="208"/>
                  </a:cubicBezTo>
                  <a:cubicBezTo>
                    <a:pt x="928" y="128"/>
                    <a:pt x="400" y="0"/>
                    <a:pt x="200" y="160"/>
                  </a:cubicBezTo>
                  <a:cubicBezTo>
                    <a:pt x="0" y="320"/>
                    <a:pt x="4" y="744"/>
                    <a:pt x="8" y="1168"/>
                  </a:cubicBezTo>
                </a:path>
              </a:pathLst>
            </a:custGeom>
            <a:noFill/>
            <a:ln w="9360">
              <a:solidFill>
                <a:srgbClr val="8383a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3998880" y="3417840"/>
            <a:ext cx="1355760" cy="30492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941280" y="3424320"/>
            <a:ext cx="14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ahoma"/>
              </a:rPr>
              <a:t>Application/FTP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4287960" y="3733920"/>
            <a:ext cx="380880" cy="304560"/>
          </a:xfrm>
          <a:prstGeom prst="line">
            <a:avLst/>
          </a:prstGeom>
          <a:ln w="9360">
            <a:solidFill>
              <a:srgbClr val="8383a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20920" y="3809880"/>
            <a:ext cx="304920" cy="15264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763720" y="3352680"/>
            <a:ext cx="304920" cy="15264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154240" y="3124080"/>
            <a:ext cx="304920" cy="15264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68440" y="3048120"/>
            <a:ext cx="304920" cy="15228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934920" y="3352680"/>
            <a:ext cx="304920" cy="15264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82640" y="3886200"/>
            <a:ext cx="304920" cy="15228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06320" y="4419720"/>
            <a:ext cx="304920" cy="15228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68440" y="4572000"/>
            <a:ext cx="304920" cy="15228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230560" y="4800600"/>
            <a:ext cx="304560" cy="15228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916360" y="4724280"/>
            <a:ext cx="304560" cy="15264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602160" y="4648320"/>
            <a:ext cx="304560" cy="15228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516560" y="4495680"/>
            <a:ext cx="304560" cy="15264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202360" y="4572000"/>
            <a:ext cx="304560" cy="15228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116760" y="4572000"/>
            <a:ext cx="304560" cy="15228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878520" y="4114800"/>
            <a:ext cx="304920" cy="15228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869240" y="3809880"/>
            <a:ext cx="304920" cy="15264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250120" y="35812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792920" y="33526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335720" y="31240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802560" y="297180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116760" y="297180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659560" y="335268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345360" y="449568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659560" y="441972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583240" y="39625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031160" y="601992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183440" y="54100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031160" y="480060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73960" y="601992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040440" y="60199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583240" y="60199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592520" y="60199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602160" y="601992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144960" y="601992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687760" y="601992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230560" y="601992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773360" y="601992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316160" y="601992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58960" y="601992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01760" y="601992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01760" y="449568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01760" y="525780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697040" y="44956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934920" y="44956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459160" y="403848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144960" y="380988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3220920" y="3581280"/>
            <a:ext cx="304920" cy="381240"/>
            <a:chOff x="3220920" y="3581280"/>
            <a:chExt cx="304920" cy="381240"/>
          </a:xfrm>
        </p:grpSpPr>
        <p:sp>
          <p:nvSpPr>
            <p:cNvPr id="611" name=""/>
            <p:cNvSpPr/>
            <p:nvPr/>
          </p:nvSpPr>
          <p:spPr>
            <a:xfrm>
              <a:off x="3220920" y="3581280"/>
              <a:ext cx="304920" cy="152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220920" y="3809880"/>
              <a:ext cx="304920" cy="152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28000" cy="12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176"/>
                </a:solidFill>
                <a:latin typeface="Arial"/>
              </a:rPr>
              <a:t>Summary: Generic Script Structure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set ns [new Simulator]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# [Turn on tracing]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# Create topology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# Setup packet loss, link dynamic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# Create routing agent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# Create: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#   - multicast group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#   - protocol agent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#   - application and/or setup traffic source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# Post-processing proc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# Start simulati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 - TCP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mple scenario with TCP and UDP connec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600200" y="3352680"/>
            <a:ext cx="304920" cy="304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600200" y="4952880"/>
            <a:ext cx="304920" cy="304920"/>
          </a:xfrm>
          <a:prstGeom prst="ellipse">
            <a:avLst/>
          </a:prstGeom>
          <a:solidFill>
            <a:srgbClr val="404176"/>
          </a:solidFill>
          <a:ln w="9360">
            <a:solidFill>
              <a:srgbClr val="c09e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352680" y="4267080"/>
            <a:ext cx="30492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715000" y="4267080"/>
            <a:ext cx="30492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315200" y="4952880"/>
            <a:ext cx="304920" cy="304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238880" y="3352680"/>
            <a:ext cx="304920" cy="304920"/>
          </a:xfrm>
          <a:prstGeom prst="ellipse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1905120" y="4419360"/>
            <a:ext cx="1447560" cy="6858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905120" y="3581280"/>
            <a:ext cx="1447560" cy="83844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657600" y="4419720"/>
            <a:ext cx="205740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6019920" y="3580920"/>
            <a:ext cx="1218960" cy="83844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19920" y="4419720"/>
            <a:ext cx="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19920" y="4419720"/>
            <a:ext cx="1295280" cy="6094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983240" y="2895480"/>
            <a:ext cx="73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n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TCP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970280" y="5137200"/>
            <a:ext cx="65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Verdana"/>
              </a:rPr>
              <a:t>n4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Verdana"/>
              </a:rPr>
              <a:t>UDP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506760" y="3809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n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624280" y="3774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n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565400" y="3048120"/>
            <a:ext cx="7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Verdana"/>
              </a:rPr>
              <a:t>n5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Verdana"/>
              </a:rPr>
              <a:t>UDP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Verdana"/>
              </a:rPr>
              <a:t>recvr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529760" y="5146560"/>
            <a:ext cx="12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n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TCPSink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253040" y="4460760"/>
            <a:ext cx="98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1.5Mb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10m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602000" y="3962520"/>
            <a:ext cx="7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5Mb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2m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781680" y="396252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5Mb2m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CP : Step 1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cheduler &amp; trac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#Create scheduler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et ns [new Simulator]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#Turn on tracing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et f [open out.tr w]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$ns trace-all $f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et nf [open out.nam w]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$ns namtrace-all $nf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CP : Step 2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reate topolog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#create nod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t n0 [$ns node]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t n1 [$ns node]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t n3 [$ns node]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t n4 [$ns node]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What Is NS?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arted as REAL in 1989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Discrete event, packet level simulato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ritten in C++ with Otcl front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ired, wireless and emulation mod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ink layer and up for most wire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dditional lower layers for wireles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CP : Step 3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#create link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ns duplex-link $n0 $n1 5Mb 2ms DropTai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ns duplex-link $n1 $n2 1.5Mb 10ms DropTai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ns duplex-link $n2 $n3 5Mb 2ms DropTai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ns queue-limit $n1 $n2 25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ns queue-limit $n2 $n1 25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CP : Step 4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reate TCP agents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t tcp [new Agent/TCP]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t sink [new Agent/TCPSink]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$ns attach-agent $n0 $tcp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$ns attach-agent $n3 $sink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$ns connect $tcp $sink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CP : Step 5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ttach traffic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t ftp [new Application/FTP]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$ftp attach-agent $tcp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#start application traffic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$ns at 1.1 “$ftp start”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CP : Step 6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nd of simulation wrapper (as usual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$ns at 2.0 “finish”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Proc finish {} {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global ns f nf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close $f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close $nf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puts “Running nam…”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exec nam out.nam &amp;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exit 0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$ns ru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Viz Tool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am-1 (Network AniMator Version 1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383a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acket-level anima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383a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Well-supported by n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Xgraph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383a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Convert trace output into xgraph forma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Ns-nam Interfa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lo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ode manipula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ink manipula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opology layou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Protocol stat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Misc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Nam Interface: Color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lor mapping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Courier New"/>
              </a:rPr>
              <a:t>$ns color 40 re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Courier New"/>
              </a:rPr>
              <a:t>$ns color 41 blu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Courier New"/>
              </a:rPr>
              <a:t>$ns color 42 chocolat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lor </a:t>
            </a:r>
            <a:r>
              <a:rPr b="0" lang="en-US" sz="3200" spc="-1" strike="noStrike">
                <a:solidFill>
                  <a:srgbClr val="8383ad"/>
                </a:solidFill>
                <a:latin typeface="Symbol"/>
                <a:ea typeface="Symbol"/>
              </a:rPr>
              <a:t>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flow id associa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Courier New"/>
              </a:rPr>
              <a:t>$tcp0 set fid_ 40</a:t>
            </a:r>
            <a:r>
              <a:rPr b="0" lang="en-US" sz="2400" spc="-1" strike="noStrike">
                <a:solidFill>
                  <a:srgbClr val="8383ad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Courier New"/>
              </a:rPr>
              <a:t>;# red packe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Courier New"/>
              </a:rPr>
              <a:t>$tcp1 set fid_ 41</a:t>
            </a:r>
            <a:r>
              <a:rPr b="0" lang="en-US" sz="2400" spc="-1" strike="noStrike">
                <a:solidFill>
                  <a:srgbClr val="8383ad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Courier New"/>
              </a:rPr>
              <a:t>;# blue packe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Nam Interface: Nod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lo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node color red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hape (can’t be changed after sim starts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node shape box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;# circle, box, hexag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Marks (concentric “shapes”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ns at 1.0 “$n0 add-mark m0 blue box”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ns at 2.0 “$n0 delete-mark m0”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abel (single string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ns at 1.1 “$n0 label \”web cache 0\””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nam Interfaces: Link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lo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ns duplex-link-op $n0 $n1 color "green"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ab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ns duplex-link-op $n0 $n1 label "abced"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Dynamics (automatically handled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ns rtmodel Deterministic {2.0 0.9 0.1} $n0 $n1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symmetric links not allowe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Nam Interface: Topo Layou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ad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8383ad"/>
                </a:solidFill>
                <a:latin typeface="Arial"/>
              </a:rPr>
              <a:t>Manual” layout: specify everything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ns duplex-link-op $n(0) $n(1) orient righ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ns duplex-link-op $n(1) $n(2) orient right-up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ns duplex-link-op $n(2) $n(3) orient dow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ns duplex-link-op $n(3) $n(4) orient 60deg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ad"/>
                </a:solidFill>
                <a:latin typeface="Arial"/>
              </a:rPr>
              <a:t>If anything missing </a:t>
            </a:r>
            <a:r>
              <a:rPr b="0" lang="en-US" sz="3600" spc="-1" strike="noStrike">
                <a:solidFill>
                  <a:srgbClr val="8383ad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8383ad"/>
                </a:solidFill>
                <a:latin typeface="Arial"/>
              </a:rPr>
              <a:t> automatic layout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latform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Most UNIX and UNIX-like system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reeBSD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unOS/Solari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HP/SGI (with some tweaking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indows 95/98/NT/ME/2000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ips on build availabl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However validation tests don’t work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Nam Interface: Protocol Stat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Monitor values of agent variabl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Courier New"/>
              </a:rPr>
              <a:t>$ns add-agent-trace $srm0 srm_agent0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Courier New"/>
              </a:rPr>
              <a:t>$ns monitor-agent-trace $srm0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Courier New"/>
              </a:rPr>
              <a:t>$srm0 tracevar C1_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Courier New"/>
              </a:rPr>
              <a:t>$srm0 tracevar C2_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Courier New"/>
              </a:rPr>
              <a:t># … …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Courier New"/>
              </a:rPr>
              <a:t>$ns delete-agent-trace $tcp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Nam Interface: Misc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040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nnota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dd textual explanation to your sim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ns at 3.5 "$ns trace-annotate \“packet drop\"“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t animation rat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ns at 0.0 "$ns set-animation-rate 0.1ms"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ther Utilities in 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Nam editor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vailable as part of nam-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cl debugger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or source and documentation, se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9e4a"/>
                </a:solidFill>
                <a:latin typeface="Arial"/>
              </a:rPr>
              <a:t>http://www.isi.edu/nsnam/ns/ns-debugging.htm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opology generator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9e4a"/>
                </a:solidFill>
                <a:latin typeface="Arial"/>
              </a:rPr>
              <a:t>http://www.isi.edu/nsnam/ns/ns-topogen.htm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cenario generator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9e4a"/>
                </a:solidFill>
                <a:latin typeface="Arial"/>
              </a:rPr>
              <a:t>http://www.isi.edu/nsnam/ns/ns-scengeneration.htm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ther Ns Featur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ther areas in wired domai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LAN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Diffserv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Multicast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ull TCP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pplications like web-caching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Wireless domai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d hoc routing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Mobile IP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atellite networking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Directed diffusion (sensor networks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ther Ns Featur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mulato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Connect simulator in a real network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Can receive and send out live packets from/into the real world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Ns distribution download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9e4a"/>
                </a:solidFill>
                <a:latin typeface="Arial"/>
              </a:rPr>
              <a:t>http://www.isi.edu/nsnam/ns/ns-build.htm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nstallation problems and bug-fix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9e4a"/>
                </a:solidFill>
                <a:latin typeface="Arial"/>
              </a:rPr>
              <a:t>http://www.isi.edu/nsnam/ns/ns-problems.htm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Ns-users mailing lis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9e4a"/>
                </a:solidFill>
                <a:uFillTx/>
                <a:latin typeface="Arial"/>
                <a:hlinkClick r:id="rId4"/>
              </a:rPr>
              <a:t>Ns-users@isi.edu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ee </a:t>
            </a:r>
            <a:r>
              <a:rPr b="0" lang="en-US" sz="2400" spc="-1" strike="noStrike" u="sng">
                <a:solidFill>
                  <a:srgbClr val="c09e4a"/>
                </a:solidFill>
                <a:uFillTx/>
                <a:latin typeface="Arial"/>
                <a:hlinkClick r:id="rId5"/>
              </a:rPr>
              <a:t>http://www.isi.edu/nsnam/ns/ns-lists.htm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rchives from above URL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Resources (contd..)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Marc Greis’ tutoria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9e4a"/>
                </a:solidFill>
                <a:latin typeface="Arial"/>
              </a:rPr>
              <a:t>http://www.isi.edu/nsnam/ns/tutori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Ns-users archiv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Ns-manua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9e4a"/>
                </a:solidFill>
                <a:latin typeface="Arial"/>
              </a:rPr>
              <a:t>http://www.isi.edu/nsnam/ns/ns-documentation.htm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cl (Tool Command Languag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9e4a"/>
                </a:solidFill>
                <a:uFillTx/>
                <a:latin typeface="Arial"/>
                <a:hlinkClick r:id="rId5"/>
              </a:rPr>
              <a:t>http://dev.scriptics.com/scripting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Practical programming in Tcl and Tk, Brent Welch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tcl (MIT Object Tcl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~otcl/doc/tutorial.html (in distribution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Architecture in 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Object-oriented (C++ and Otcl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383a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lgorithms over large data sets, per packet handling in C++ 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383a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Configuration, “one-time” stuff in Otcl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383a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ast to run, quick to re-configur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383a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ine grained object composi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++ and OTcl Sepa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++ for “data”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er packet ac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OTcl for contro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Configuration, “one-time” task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mpromise between composibility and spee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arning and debugging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Tcl and C++: The Dualit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106640" y="1843200"/>
            <a:ext cx="3236760" cy="396216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488960" y="2557440"/>
            <a:ext cx="381240" cy="1522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17560" y="2252520"/>
            <a:ext cx="381240" cy="15264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022480" y="2557440"/>
            <a:ext cx="380880" cy="1522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1717560" y="2405160"/>
            <a:ext cx="152640" cy="1522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022480" y="2405160"/>
            <a:ext cx="228600" cy="1522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881440" y="3828960"/>
            <a:ext cx="380880" cy="15264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652840" y="4133880"/>
            <a:ext cx="380880" cy="1522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262320" y="4133880"/>
            <a:ext cx="380880" cy="1522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67240" y="4438800"/>
            <a:ext cx="380880" cy="1522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57400" y="4438800"/>
            <a:ext cx="381240" cy="1522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804760" y="3981600"/>
            <a:ext cx="228600" cy="1522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86000" y="3981600"/>
            <a:ext cx="304920" cy="1522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3185640" y="4286160"/>
            <a:ext cx="228600" cy="15264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67240" y="4286160"/>
            <a:ext cx="228600" cy="15264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0" y="1843200"/>
            <a:ext cx="3625920" cy="396216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89680" y="2489040"/>
            <a:ext cx="381240" cy="15264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118280" y="2184480"/>
            <a:ext cx="381240" cy="1522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423200" y="2489040"/>
            <a:ext cx="380880" cy="15264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7118280" y="2336760"/>
            <a:ext cx="152640" cy="1522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423200" y="2336760"/>
            <a:ext cx="228600" cy="1522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38840" y="3067200"/>
            <a:ext cx="380880" cy="1522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710240" y="3371760"/>
            <a:ext cx="380880" cy="15264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19720" y="3371760"/>
            <a:ext cx="380880" cy="15264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624640" y="3676680"/>
            <a:ext cx="380880" cy="1522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14800" y="3676680"/>
            <a:ext cx="381240" cy="1522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4862160" y="3219480"/>
            <a:ext cx="228600" cy="1522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243400" y="3219480"/>
            <a:ext cx="304920" cy="1522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5243040" y="3524400"/>
            <a:ext cx="228600" cy="1522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624640" y="3524400"/>
            <a:ext cx="228600" cy="1522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48840" y="5283360"/>
            <a:ext cx="7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C++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314480" y="528804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OTcl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67240" y="3092400"/>
            <a:ext cx="1676160" cy="1041480"/>
          </a:xfrm>
          <a:custGeom>
            <a:avLst/>
            <a:gdLst/>
            <a:ahLst/>
            <a:rect l="l" t="t" r="r" b="b"/>
            <a:pathLst>
              <a:path w="1056" h="656">
                <a:moveTo>
                  <a:pt x="0" y="656"/>
                </a:moveTo>
                <a:cubicBezTo>
                  <a:pt x="104" y="408"/>
                  <a:pt x="208" y="160"/>
                  <a:pt x="384" y="80"/>
                </a:cubicBezTo>
                <a:cubicBezTo>
                  <a:pt x="560" y="0"/>
                  <a:pt x="944" y="160"/>
                  <a:pt x="1056" y="176"/>
                </a:cubicBezTo>
              </a:path>
            </a:pathLst>
          </a:custGeom>
          <a:noFill/>
          <a:ln w="9360">
            <a:solidFill>
              <a:srgbClr val="8383ad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62320" y="3905280"/>
            <a:ext cx="2158920" cy="1028520"/>
          </a:xfrm>
          <a:custGeom>
            <a:avLst/>
            <a:gdLst/>
            <a:ahLst/>
            <a:rect l="l" t="t" r="r" b="b"/>
            <a:pathLst>
              <a:path w="1360" h="648">
                <a:moveTo>
                  <a:pt x="0" y="432"/>
                </a:moveTo>
                <a:cubicBezTo>
                  <a:pt x="472" y="540"/>
                  <a:pt x="944" y="648"/>
                  <a:pt x="1152" y="576"/>
                </a:cubicBezTo>
                <a:cubicBezTo>
                  <a:pt x="1360" y="504"/>
                  <a:pt x="1232" y="96"/>
                  <a:pt x="1248" y="0"/>
                </a:cubicBezTo>
              </a:path>
            </a:pathLst>
          </a:custGeom>
          <a:noFill/>
          <a:ln w="9360">
            <a:solidFill>
              <a:srgbClr val="8383ad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71800" y="3905280"/>
            <a:ext cx="2082960" cy="1028520"/>
          </a:xfrm>
          <a:custGeom>
            <a:avLst/>
            <a:gdLst/>
            <a:ahLst/>
            <a:rect l="l" t="t" r="r" b="b"/>
            <a:pathLst>
              <a:path w="1312" h="648">
                <a:moveTo>
                  <a:pt x="0" y="432"/>
                </a:moveTo>
                <a:cubicBezTo>
                  <a:pt x="448" y="540"/>
                  <a:pt x="896" y="648"/>
                  <a:pt x="1104" y="576"/>
                </a:cubicBezTo>
                <a:cubicBezTo>
                  <a:pt x="1312" y="504"/>
                  <a:pt x="1280" y="252"/>
                  <a:pt x="1248" y="0"/>
                </a:cubicBezTo>
              </a:path>
            </a:pathLst>
          </a:custGeom>
          <a:noFill/>
          <a:ln w="9360">
            <a:solidFill>
              <a:srgbClr val="8383ad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728800" y="3016080"/>
            <a:ext cx="1905120" cy="1117800"/>
          </a:xfrm>
          <a:custGeom>
            <a:avLst/>
            <a:gdLst/>
            <a:ahLst/>
            <a:rect l="l" t="t" r="r" b="b"/>
            <a:pathLst>
              <a:path w="1200" h="704">
                <a:moveTo>
                  <a:pt x="0" y="704"/>
                </a:moveTo>
                <a:cubicBezTo>
                  <a:pt x="68" y="432"/>
                  <a:pt x="136" y="160"/>
                  <a:pt x="336" y="80"/>
                </a:cubicBezTo>
                <a:cubicBezTo>
                  <a:pt x="536" y="0"/>
                  <a:pt x="868" y="112"/>
                  <a:pt x="1200" y="224"/>
                </a:cubicBezTo>
              </a:path>
            </a:pathLst>
          </a:custGeom>
          <a:noFill/>
          <a:ln w="9360">
            <a:solidFill>
              <a:srgbClr val="8383ad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186000" y="2787480"/>
            <a:ext cx="1676520" cy="1041480"/>
          </a:xfrm>
          <a:custGeom>
            <a:avLst/>
            <a:gdLst/>
            <a:ahLst/>
            <a:rect l="l" t="t" r="r" b="b"/>
            <a:pathLst>
              <a:path w="1056" h="656">
                <a:moveTo>
                  <a:pt x="0" y="656"/>
                </a:moveTo>
                <a:cubicBezTo>
                  <a:pt x="80" y="408"/>
                  <a:pt x="160" y="160"/>
                  <a:pt x="336" y="80"/>
                </a:cubicBezTo>
                <a:cubicBezTo>
                  <a:pt x="512" y="0"/>
                  <a:pt x="784" y="88"/>
                  <a:pt x="1056" y="176"/>
                </a:cubicBezTo>
              </a:path>
            </a:pathLst>
          </a:custGeom>
          <a:noFill/>
          <a:ln w="9360">
            <a:solidFill>
              <a:srgbClr val="8383ad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03640" y="2765520"/>
            <a:ext cx="1151640" cy="64260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ahoma"/>
              </a:rPr>
              <a:t>Pure C++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ahoma"/>
              </a:rPr>
              <a:t>objects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37040" y="2725560"/>
            <a:ext cx="1218600" cy="64260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ahoma"/>
              </a:rPr>
              <a:t>Pure OTcl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ahoma"/>
              </a:rPr>
              <a:t>objects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68800" y="4998960"/>
            <a:ext cx="2468520" cy="64260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ahoma"/>
              </a:rPr>
              <a:t>C++/OTcl split objects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14400" y="1654200"/>
            <a:ext cx="7504200" cy="469260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211640" y="590400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n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Basic tcl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a 43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b 27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proc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test { a b } {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c [expr $a + $b]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d [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expr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[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expr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$a - $b] * $c]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{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k 0} {$k &lt; 10} {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incr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k} {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{$k &lt; 5} {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puts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“k &lt; 5, pow = [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expr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pow($d, $k)]”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else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puts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“k &gt;= 5, mod = [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expr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$d % $k]”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Basic OTcl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Mom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Mom 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instproc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greet {} {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self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instvar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age_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puts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“$age_ years old mom: How are you doing?”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Kid -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superclass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Mom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Kid 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instproc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greet {} {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self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instvar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age_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puts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“$age_ years old kid: What’s up, dude?”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mom [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Mom]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mom 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age_ 45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kid [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Kid]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kid 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age_ 15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mom gree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kid gree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0T22:30:25Z</dcterms:created>
  <dc:creator>USC/ISI</dc:creator>
  <dc:description/>
  <dc:language>en-US</dc:language>
  <cp:lastModifiedBy>Administrator</cp:lastModifiedBy>
  <dcterms:modified xsi:type="dcterms:W3CDTF">2002-09-03T21:34:13Z</dcterms:modified>
  <cp:revision>45</cp:revision>
  <dc:subject/>
  <dc:title>NS TUTORIAL</dc:title>
</cp:coreProperties>
</file>