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46C8-E9DF-4710-9EC0-62059770E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0154-3024-44A1-8085-BB575B5AC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3883-2F9F-4F1B-AABE-8C8C3BD0A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65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099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1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65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099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EABD-3895-455E-8868-C83CAB246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31280" y="431640"/>
            <a:ext cx="1133964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E47C-37AD-4EE9-8F13-B1327F886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65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99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31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65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99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7176-28D6-4004-8BF6-7CC6DB60AF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31280" y="431640"/>
            <a:ext cx="1133964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5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99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31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265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99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D0D0-09EC-4D6B-B499-AE058BE52F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31280" y="431640"/>
            <a:ext cx="1133964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65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99280" y="151128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31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265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99280" y="3798360"/>
            <a:ext cx="36511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FFB1-8A90-41D6-BDA1-79CAC8764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31280" y="431640"/>
            <a:ext cx="1133964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295B-CEE2-4E24-A905-34B48F03B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BB1D-3462-4A35-B7A9-D3AF5A7F4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42040" y="379836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A547-A5D3-4FDF-8B29-DB49179D2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428400"/>
            <a:ext cx="1133964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42040" y="1511280"/>
            <a:ext cx="553356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1280" y="3798360"/>
            <a:ext cx="11339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82EF-455A-4447-9C29-559CC86E1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191280"/>
            <a:ext cx="12192120" cy="66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1" marL="542880" indent="-27612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2" marL="80964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3" marL="107640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4" marL="13431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5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6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92160"/>
            <a:ext cx="14436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12047400" y="92160"/>
            <a:ext cx="14472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Freeform: Shape 17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36000" y="36000"/>
                </a:moveTo>
                <a:lnTo>
                  <a:pt x="36000" y="6822000"/>
                </a:lnTo>
                <a:lnTo>
                  <a:pt x="12156000" y="6822000"/>
                </a:lnTo>
                <a:lnTo>
                  <a:pt x="12156000" y="36000"/>
                </a:lnTo>
                <a:lnTo>
                  <a:pt x="36000" y="36000"/>
                </a:lnTo>
                <a:close/>
                <a:moveTo>
                  <a:pt x="0" y="0"/>
                </a:moveTo>
                <a:lnTo>
                  <a:pt x="36000" y="0"/>
                </a:lnTo>
                <a:lnTo>
                  <a:pt x="12156000" y="0"/>
                </a:lnTo>
                <a:lnTo>
                  <a:pt x="12192000" y="0"/>
                </a:lnTo>
                <a:lnTo>
                  <a:pt x="12192000" y="36000"/>
                </a:lnTo>
                <a:lnTo>
                  <a:pt x="12192000" y="6822000"/>
                </a:lnTo>
                <a:lnTo>
                  <a:pt x="12192000" y="6858000"/>
                </a:lnTo>
                <a:lnTo>
                  <a:pt x="12156000" y="6858000"/>
                </a:lnTo>
                <a:lnTo>
                  <a:pt x="36000" y="6858000"/>
                </a:lnTo>
                <a:lnTo>
                  <a:pt x="0" y="6858000"/>
                </a:lnTo>
                <a:lnTo>
                  <a:pt x="0" y="6822000"/>
                </a:lnTo>
                <a:lnTo>
                  <a:pt x="0" y="36000"/>
                </a:lnTo>
                <a:lnTo>
                  <a:pt x="0" y="0"/>
                </a:lnTo>
                <a:close/>
              </a:path>
            </a:pathLst>
          </a:custGeom>
          <a:solidFill>
            <a:srgbClr val="05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167732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79A0-ADBA-4CD9-A9E9-F10CF9F5204F}" type="slidenum">
              <a:rPr b="0" lang="en-ZA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44360" y="63230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404040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0193400" y="6259680"/>
            <a:ext cx="1577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404040"/>
                </a:solidFill>
                <a:latin typeface="Rockwell"/>
                <a:ea typeface="Times New Roman"/>
              </a:rPr>
              <a:t>Contoso</a:t>
            </a:r>
            <a:br>
              <a:rPr sz="2000"/>
            </a:br>
            <a:r>
              <a:rPr b="0" i="1" lang="en-ZA" sz="1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ites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671364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92160"/>
            <a:ext cx="14436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12047400" y="92160"/>
            <a:ext cx="14472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Freeform: Shape 12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36000" y="36000"/>
                </a:moveTo>
                <a:lnTo>
                  <a:pt x="36000" y="6822000"/>
                </a:lnTo>
                <a:lnTo>
                  <a:pt x="12156000" y="6822000"/>
                </a:lnTo>
                <a:lnTo>
                  <a:pt x="12156000" y="36000"/>
                </a:lnTo>
                <a:lnTo>
                  <a:pt x="36000" y="36000"/>
                </a:lnTo>
                <a:close/>
                <a:moveTo>
                  <a:pt x="0" y="0"/>
                </a:moveTo>
                <a:lnTo>
                  <a:pt x="36000" y="0"/>
                </a:lnTo>
                <a:lnTo>
                  <a:pt x="12156000" y="0"/>
                </a:lnTo>
                <a:lnTo>
                  <a:pt x="12192000" y="0"/>
                </a:lnTo>
                <a:lnTo>
                  <a:pt x="12192000" y="36000"/>
                </a:lnTo>
                <a:lnTo>
                  <a:pt x="12192000" y="6822000"/>
                </a:lnTo>
                <a:lnTo>
                  <a:pt x="12192000" y="6858000"/>
                </a:lnTo>
                <a:lnTo>
                  <a:pt x="12156000" y="6858000"/>
                </a:lnTo>
                <a:lnTo>
                  <a:pt x="36000" y="6858000"/>
                </a:lnTo>
                <a:lnTo>
                  <a:pt x="0" y="6858000"/>
                </a:lnTo>
                <a:lnTo>
                  <a:pt x="0" y="6822000"/>
                </a:lnTo>
                <a:lnTo>
                  <a:pt x="0" y="36000"/>
                </a:lnTo>
                <a:lnTo>
                  <a:pt x="0" y="0"/>
                </a:lnTo>
                <a:close/>
              </a:path>
            </a:pathLst>
          </a:custGeom>
          <a:solidFill>
            <a:srgbClr val="05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1" marL="542880" indent="-27612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2" marL="80964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3" marL="107640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4" marL="13431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5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6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713640"/>
            <a:ext cx="121921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0"/>
            <a:ext cx="121921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0" y="92160"/>
            <a:ext cx="14436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2047400" y="92160"/>
            <a:ext cx="14472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Freeform: Shape 12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36000" y="36000"/>
                </a:moveTo>
                <a:lnTo>
                  <a:pt x="36000" y="6822000"/>
                </a:lnTo>
                <a:lnTo>
                  <a:pt x="12156000" y="6822000"/>
                </a:lnTo>
                <a:lnTo>
                  <a:pt x="12156000" y="36000"/>
                </a:lnTo>
                <a:lnTo>
                  <a:pt x="36000" y="36000"/>
                </a:lnTo>
                <a:close/>
                <a:moveTo>
                  <a:pt x="0" y="0"/>
                </a:moveTo>
                <a:lnTo>
                  <a:pt x="36000" y="0"/>
                </a:lnTo>
                <a:lnTo>
                  <a:pt x="12156000" y="0"/>
                </a:lnTo>
                <a:lnTo>
                  <a:pt x="12192000" y="0"/>
                </a:lnTo>
                <a:lnTo>
                  <a:pt x="12192000" y="36000"/>
                </a:lnTo>
                <a:lnTo>
                  <a:pt x="12192000" y="6822000"/>
                </a:lnTo>
                <a:lnTo>
                  <a:pt x="12192000" y="6858000"/>
                </a:lnTo>
                <a:lnTo>
                  <a:pt x="12156000" y="6858000"/>
                </a:lnTo>
                <a:lnTo>
                  <a:pt x="36000" y="6858000"/>
                </a:lnTo>
                <a:lnTo>
                  <a:pt x="0" y="6858000"/>
                </a:lnTo>
                <a:lnTo>
                  <a:pt x="0" y="6822000"/>
                </a:lnTo>
                <a:lnTo>
                  <a:pt x="0" y="36000"/>
                </a:lnTo>
                <a:lnTo>
                  <a:pt x="0" y="0"/>
                </a:lnTo>
                <a:close/>
              </a:path>
            </a:pathLst>
          </a:custGeom>
          <a:solidFill>
            <a:srgbClr val="05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1" marL="542880" indent="-27612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2" marL="80964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3" marL="107640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4" marL="13431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5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6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1"/>
          <p:cNvSpPr/>
          <p:nvPr/>
        </p:nvSpPr>
        <p:spPr>
          <a:xfrm>
            <a:off x="0" y="671364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0" y="0"/>
            <a:ext cx="12192120" cy="14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0" y="92160"/>
            <a:ext cx="14436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2047400" y="92160"/>
            <a:ext cx="144720" cy="6629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Freeform: Shape 12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36000" y="36000"/>
                </a:moveTo>
                <a:lnTo>
                  <a:pt x="36000" y="6822000"/>
                </a:lnTo>
                <a:lnTo>
                  <a:pt x="12156000" y="6822000"/>
                </a:lnTo>
                <a:lnTo>
                  <a:pt x="12156000" y="36000"/>
                </a:lnTo>
                <a:lnTo>
                  <a:pt x="36000" y="36000"/>
                </a:lnTo>
                <a:close/>
                <a:moveTo>
                  <a:pt x="0" y="0"/>
                </a:moveTo>
                <a:lnTo>
                  <a:pt x="36000" y="0"/>
                </a:lnTo>
                <a:lnTo>
                  <a:pt x="12156000" y="0"/>
                </a:lnTo>
                <a:lnTo>
                  <a:pt x="12192000" y="0"/>
                </a:lnTo>
                <a:lnTo>
                  <a:pt x="12192000" y="36000"/>
                </a:lnTo>
                <a:lnTo>
                  <a:pt x="12192000" y="6822000"/>
                </a:lnTo>
                <a:lnTo>
                  <a:pt x="12192000" y="6858000"/>
                </a:lnTo>
                <a:lnTo>
                  <a:pt x="12156000" y="6858000"/>
                </a:lnTo>
                <a:lnTo>
                  <a:pt x="36000" y="6858000"/>
                </a:lnTo>
                <a:lnTo>
                  <a:pt x="0" y="6858000"/>
                </a:lnTo>
                <a:lnTo>
                  <a:pt x="0" y="6822000"/>
                </a:lnTo>
                <a:lnTo>
                  <a:pt x="0" y="36000"/>
                </a:lnTo>
                <a:lnTo>
                  <a:pt x="0" y="0"/>
                </a:lnTo>
                <a:close/>
              </a:path>
            </a:pathLst>
          </a:custGeom>
          <a:solidFill>
            <a:srgbClr val="05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31280" y="1511280"/>
            <a:ext cx="11339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1" marL="542880" indent="-27612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2" marL="80964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3" marL="107640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4" marL="1343160" indent="-26676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5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  <a:p>
            <a:pPr lvl="6" marL="13431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travel-point.or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Placeholder 4" descr=""/>
          <p:cNvPicPr/>
          <p:nvPr/>
        </p:nvPicPr>
        <p:blipFill>
          <a:blip r:embed="rId1"/>
          <a:srcRect l="0" t="22413" r="0" b="22413"/>
          <a:stretch/>
        </p:blipFill>
        <p:spPr>
          <a:xfrm>
            <a:off x="144360" y="144360"/>
            <a:ext cx="11904840" cy="6569280"/>
          </a:xfrm>
          <a:prstGeom prst="rect">
            <a:avLst/>
          </a:prstGeom>
          <a:ln w="0">
            <a:noFill/>
          </a:ln>
        </p:spPr>
      </p:pic>
      <p:grpSp>
        <p:nvGrpSpPr>
          <p:cNvPr id="176" name="Title 2"/>
          <p:cNvGrpSpPr/>
          <p:nvPr/>
        </p:nvGrpSpPr>
        <p:grpSpPr>
          <a:xfrm>
            <a:off x="360360" y="360360"/>
            <a:ext cx="4419720" cy="5321160"/>
            <a:chOff x="360360" y="360360"/>
            <a:chExt cx="4419720" cy="5321160"/>
          </a:xfrm>
        </p:grpSpPr>
        <p:pic>
          <p:nvPicPr>
            <p:cNvPr id="177" name="Title 2" descr=""/>
            <p:cNvPicPr/>
            <p:nvPr/>
          </p:nvPicPr>
          <p:blipFill>
            <a:blip r:embed="rId2"/>
            <a:stretch/>
          </p:blipFill>
          <p:spPr>
            <a:xfrm>
              <a:off x="360360" y="360360"/>
              <a:ext cx="4419720" cy="53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0360" y="360360"/>
              <a:ext cx="4416480" cy="53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180000" tIns="0" bIns="180000" anchor="b">
              <a:noAutofit/>
            </a:bodyPr>
            <a:p>
              <a:pPr algn="r">
                <a:lnSpc>
                  <a:spcPts val="4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4500" spc="-1" strike="noStrike">
                  <a:solidFill>
                    <a:srgbClr val="000000"/>
                  </a:solidFill>
                  <a:latin typeface="Rockwell"/>
                </a:rPr>
                <a:t>Luggage Sets</a:t>
              </a:r>
              <a:endParaRPr b="0" lang="en-US" sz="45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79" name="Subtitle 3"/>
          <p:cNvGrpSpPr/>
          <p:nvPr/>
        </p:nvGrpSpPr>
        <p:grpSpPr>
          <a:xfrm>
            <a:off x="360360" y="5681520"/>
            <a:ext cx="4424400" cy="822600"/>
            <a:chOff x="360360" y="5681520"/>
            <a:chExt cx="4424400" cy="822600"/>
          </a:xfrm>
        </p:grpSpPr>
        <p:pic>
          <p:nvPicPr>
            <p:cNvPr id="180" name="Subtitle 3" descr=""/>
            <p:cNvPicPr/>
            <p:nvPr/>
          </p:nvPicPr>
          <p:blipFill>
            <a:blip r:embed="rId3"/>
            <a:stretch/>
          </p:blipFill>
          <p:spPr>
            <a:xfrm>
              <a:off x="360360" y="5681520"/>
              <a:ext cx="442440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60360" y="5681520"/>
              <a:ext cx="441648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44000" bIns="0" anchor="t">
              <a:noAutofit/>
            </a:bodyPr>
            <a:p>
              <a:pPr algn="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404040"/>
                  </a:solidFill>
                  <a:latin typeface="Calibri Light"/>
                </a:rPr>
                <a:t>https://travel-point.org</a:t>
              </a: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668C-C819-4F8F-91CB-0A3206ABB48D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570720" y="1290600"/>
            <a:ext cx="3944880" cy="39466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1670040" y="2479680"/>
            <a:ext cx="444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Do you often travel and need your things to be safe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A5DA-6186-4EBE-AE5D-12A41DD17739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384200" y="1098720"/>
            <a:ext cx="3765600" cy="48686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5386320" y="284148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Today we have come up with the solution and telling you about the top luggage sets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010E-7B00-4CE2-925E-FB31CA539630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635880" y="1222200"/>
            <a:ext cx="3908160" cy="39751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607760" y="320976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We offer quality to our bag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7620-0FE5-44AA-8A18-EF7C966197C6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044720" y="1301760"/>
            <a:ext cx="4498920" cy="4653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5543640" y="293544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In our blog you will be able to find the suitable luggage sets for you and those will be of great quality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806E-9CB6-4F17-B2E7-F02EF3A72B81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900080" y="2630520"/>
            <a:ext cx="426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ompare products and make a final selection decis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6811920" y="166680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1280" y="431640"/>
            <a:ext cx="113396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r more details visit site: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TextBox 7">
            <a:hlinkClick r:id="rId1"/>
          </p:cNvPr>
          <p:cNvSpPr/>
          <p:nvPr/>
        </p:nvSpPr>
        <p:spPr>
          <a:xfrm>
            <a:off x="1547640" y="2459160"/>
            <a:ext cx="90964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56aff"/>
                </a:solidFill>
                <a:uFillTx/>
                <a:latin typeface="Calibri Light"/>
                <a:hlinkClick r:id="rId2"/>
              </a:rPr>
              <a:t>https://travel-point.or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11677680" y="6323040"/>
            <a:ext cx="369720" cy="36504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7C59-EF9A-479B-A369-DF3A235C51CB}" type="slidenum">
              <a:rPr b="0" lang="en-ZA" sz="1200" spc="-1" strike="noStrike">
                <a:solidFill>
                  <a:srgbClr val="40404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3T11:59:53Z</dcterms:created>
  <dc:creator/>
  <dc:description/>
  <dc:language>en-US</dc:language>
  <cp:lastModifiedBy/>
  <dcterms:modified xsi:type="dcterms:W3CDTF">2018-12-23T12:32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</Properties>
</file>