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2272-F71E-4ABF-BF21-0E2D86004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BCB2-E1AF-4C83-8389-467AA6C8F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2D0C-3DB3-4186-9D76-0F3FED54B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65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099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1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65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099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8460-7114-419B-B446-6B00F6453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31280" y="431640"/>
            <a:ext cx="1133964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4A37-A070-4909-899B-E0F5C48D0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65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99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31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65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99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5BC1-31E2-4DC0-A504-40311777E4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31280" y="431640"/>
            <a:ext cx="1133964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5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9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31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265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99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FECE-A60E-4419-B1A1-111044166B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31280" y="431640"/>
            <a:ext cx="1133964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65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99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31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265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99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2D34-2896-4067-8BB2-035AEAC5B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31280" y="431640"/>
            <a:ext cx="1133964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3FE8-7119-4FBB-B9C6-DE9252EB0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B5DD-4386-4383-AD76-79806A587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286E-34D4-47F5-A4F6-7816F0FDE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F3F5-657A-4124-A9CE-03862225F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191280"/>
            <a:ext cx="12192120" cy="66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1" marL="542880" indent="-27612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2" marL="80964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3" marL="107640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4" marL="13431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5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6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92160"/>
            <a:ext cx="14436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12047400" y="92160"/>
            <a:ext cx="14472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Freeform: Shape 1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36000" y="36000"/>
                </a:moveTo>
                <a:lnTo>
                  <a:pt x="36000" y="6822000"/>
                </a:lnTo>
                <a:lnTo>
                  <a:pt x="12156000" y="6822000"/>
                </a:lnTo>
                <a:lnTo>
                  <a:pt x="12156000" y="36000"/>
                </a:lnTo>
                <a:lnTo>
                  <a:pt x="36000" y="36000"/>
                </a:lnTo>
                <a:close/>
                <a:moveTo>
                  <a:pt x="0" y="0"/>
                </a:moveTo>
                <a:lnTo>
                  <a:pt x="36000" y="0"/>
                </a:lnTo>
                <a:lnTo>
                  <a:pt x="12156000" y="0"/>
                </a:lnTo>
                <a:lnTo>
                  <a:pt x="12192000" y="0"/>
                </a:lnTo>
                <a:lnTo>
                  <a:pt x="12192000" y="36000"/>
                </a:lnTo>
                <a:lnTo>
                  <a:pt x="12192000" y="6822000"/>
                </a:lnTo>
                <a:lnTo>
                  <a:pt x="12192000" y="6858000"/>
                </a:lnTo>
                <a:lnTo>
                  <a:pt x="12156000" y="6858000"/>
                </a:lnTo>
                <a:lnTo>
                  <a:pt x="36000" y="6858000"/>
                </a:lnTo>
                <a:lnTo>
                  <a:pt x="0" y="6858000"/>
                </a:lnTo>
                <a:lnTo>
                  <a:pt x="0" y="6822000"/>
                </a:lnTo>
                <a:lnTo>
                  <a:pt x="0" y="36000"/>
                </a:lnTo>
                <a:lnTo>
                  <a:pt x="0" y="0"/>
                </a:lnTo>
                <a:close/>
              </a:path>
            </a:pathLst>
          </a:custGeom>
          <a:solidFill>
            <a:srgbClr val="05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167732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A1BA-0FA5-4920-A190-6BB2925B5907}" type="slidenum">
              <a:rPr b="0" lang="en-ZA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44360" y="6323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404040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0193400" y="6259680"/>
            <a:ext cx="1577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404040"/>
                </a:solidFill>
                <a:latin typeface="Rockwell"/>
                <a:ea typeface="Times New Roman"/>
              </a:rPr>
              <a:t>Contoso</a:t>
            </a:r>
            <a:br>
              <a:rPr sz="2000"/>
            </a:br>
            <a:r>
              <a:rPr b="0" i="1" lang="en-ZA" sz="1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it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671364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92160"/>
            <a:ext cx="14436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12047400" y="92160"/>
            <a:ext cx="14472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Freeform: Shape 12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36000" y="36000"/>
                </a:moveTo>
                <a:lnTo>
                  <a:pt x="36000" y="6822000"/>
                </a:lnTo>
                <a:lnTo>
                  <a:pt x="12156000" y="6822000"/>
                </a:lnTo>
                <a:lnTo>
                  <a:pt x="12156000" y="36000"/>
                </a:lnTo>
                <a:lnTo>
                  <a:pt x="36000" y="36000"/>
                </a:lnTo>
                <a:close/>
                <a:moveTo>
                  <a:pt x="0" y="0"/>
                </a:moveTo>
                <a:lnTo>
                  <a:pt x="36000" y="0"/>
                </a:lnTo>
                <a:lnTo>
                  <a:pt x="12156000" y="0"/>
                </a:lnTo>
                <a:lnTo>
                  <a:pt x="12192000" y="0"/>
                </a:lnTo>
                <a:lnTo>
                  <a:pt x="12192000" y="36000"/>
                </a:lnTo>
                <a:lnTo>
                  <a:pt x="12192000" y="6822000"/>
                </a:lnTo>
                <a:lnTo>
                  <a:pt x="12192000" y="6858000"/>
                </a:lnTo>
                <a:lnTo>
                  <a:pt x="12156000" y="6858000"/>
                </a:lnTo>
                <a:lnTo>
                  <a:pt x="36000" y="6858000"/>
                </a:lnTo>
                <a:lnTo>
                  <a:pt x="0" y="6858000"/>
                </a:lnTo>
                <a:lnTo>
                  <a:pt x="0" y="6822000"/>
                </a:lnTo>
                <a:lnTo>
                  <a:pt x="0" y="36000"/>
                </a:lnTo>
                <a:lnTo>
                  <a:pt x="0" y="0"/>
                </a:lnTo>
                <a:close/>
              </a:path>
            </a:pathLst>
          </a:custGeom>
          <a:solidFill>
            <a:srgbClr val="05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1" marL="542880" indent="-27612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2" marL="80964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3" marL="107640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4" marL="13431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5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6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713640"/>
            <a:ext cx="121921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0"/>
            <a:ext cx="121921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0" y="92160"/>
            <a:ext cx="14436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2047400" y="92160"/>
            <a:ext cx="14472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Freeform: Shape 12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36000" y="36000"/>
                </a:moveTo>
                <a:lnTo>
                  <a:pt x="36000" y="6822000"/>
                </a:lnTo>
                <a:lnTo>
                  <a:pt x="12156000" y="6822000"/>
                </a:lnTo>
                <a:lnTo>
                  <a:pt x="12156000" y="36000"/>
                </a:lnTo>
                <a:lnTo>
                  <a:pt x="36000" y="36000"/>
                </a:lnTo>
                <a:close/>
                <a:moveTo>
                  <a:pt x="0" y="0"/>
                </a:moveTo>
                <a:lnTo>
                  <a:pt x="36000" y="0"/>
                </a:lnTo>
                <a:lnTo>
                  <a:pt x="12156000" y="0"/>
                </a:lnTo>
                <a:lnTo>
                  <a:pt x="12192000" y="0"/>
                </a:lnTo>
                <a:lnTo>
                  <a:pt x="12192000" y="36000"/>
                </a:lnTo>
                <a:lnTo>
                  <a:pt x="12192000" y="6822000"/>
                </a:lnTo>
                <a:lnTo>
                  <a:pt x="12192000" y="6858000"/>
                </a:lnTo>
                <a:lnTo>
                  <a:pt x="12156000" y="6858000"/>
                </a:lnTo>
                <a:lnTo>
                  <a:pt x="36000" y="6858000"/>
                </a:lnTo>
                <a:lnTo>
                  <a:pt x="0" y="6858000"/>
                </a:lnTo>
                <a:lnTo>
                  <a:pt x="0" y="6822000"/>
                </a:lnTo>
                <a:lnTo>
                  <a:pt x="0" y="36000"/>
                </a:lnTo>
                <a:lnTo>
                  <a:pt x="0" y="0"/>
                </a:lnTo>
                <a:close/>
              </a:path>
            </a:pathLst>
          </a:custGeom>
          <a:solidFill>
            <a:srgbClr val="05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1" marL="542880" indent="-27612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2" marL="80964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3" marL="107640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4" marL="13431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5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6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1"/>
          <p:cNvSpPr/>
          <p:nvPr/>
        </p:nvSpPr>
        <p:spPr>
          <a:xfrm>
            <a:off x="0" y="671364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0" y="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0" y="92160"/>
            <a:ext cx="14436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2047400" y="92160"/>
            <a:ext cx="14472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Freeform: Shape 12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36000" y="36000"/>
                </a:moveTo>
                <a:lnTo>
                  <a:pt x="36000" y="6822000"/>
                </a:lnTo>
                <a:lnTo>
                  <a:pt x="12156000" y="6822000"/>
                </a:lnTo>
                <a:lnTo>
                  <a:pt x="12156000" y="36000"/>
                </a:lnTo>
                <a:lnTo>
                  <a:pt x="36000" y="36000"/>
                </a:lnTo>
                <a:close/>
                <a:moveTo>
                  <a:pt x="0" y="0"/>
                </a:moveTo>
                <a:lnTo>
                  <a:pt x="36000" y="0"/>
                </a:lnTo>
                <a:lnTo>
                  <a:pt x="12156000" y="0"/>
                </a:lnTo>
                <a:lnTo>
                  <a:pt x="12192000" y="0"/>
                </a:lnTo>
                <a:lnTo>
                  <a:pt x="12192000" y="36000"/>
                </a:lnTo>
                <a:lnTo>
                  <a:pt x="12192000" y="6822000"/>
                </a:lnTo>
                <a:lnTo>
                  <a:pt x="12192000" y="6858000"/>
                </a:lnTo>
                <a:lnTo>
                  <a:pt x="12156000" y="6858000"/>
                </a:lnTo>
                <a:lnTo>
                  <a:pt x="36000" y="6858000"/>
                </a:lnTo>
                <a:lnTo>
                  <a:pt x="0" y="6858000"/>
                </a:lnTo>
                <a:lnTo>
                  <a:pt x="0" y="6822000"/>
                </a:lnTo>
                <a:lnTo>
                  <a:pt x="0" y="36000"/>
                </a:lnTo>
                <a:lnTo>
                  <a:pt x="0" y="0"/>
                </a:lnTo>
                <a:close/>
              </a:path>
            </a:pathLst>
          </a:custGeom>
          <a:solidFill>
            <a:srgbClr val="05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1" marL="542880" indent="-27612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2" marL="80964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3" marL="107640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4" marL="13431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5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6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travel-point.or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Placeholder 4" descr=""/>
          <p:cNvPicPr/>
          <p:nvPr/>
        </p:nvPicPr>
        <p:blipFill>
          <a:blip r:embed="rId1"/>
          <a:srcRect l="0" t="22413" r="0" b="22413"/>
          <a:stretch/>
        </p:blipFill>
        <p:spPr>
          <a:xfrm>
            <a:off x="144360" y="144360"/>
            <a:ext cx="11904840" cy="6569280"/>
          </a:xfrm>
          <a:prstGeom prst="rect">
            <a:avLst/>
          </a:prstGeom>
          <a:ln w="0">
            <a:noFill/>
          </a:ln>
        </p:spPr>
      </p:pic>
      <p:grpSp>
        <p:nvGrpSpPr>
          <p:cNvPr id="176" name="Title 2"/>
          <p:cNvGrpSpPr/>
          <p:nvPr/>
        </p:nvGrpSpPr>
        <p:grpSpPr>
          <a:xfrm>
            <a:off x="360360" y="360360"/>
            <a:ext cx="4419720" cy="5321160"/>
            <a:chOff x="360360" y="360360"/>
            <a:chExt cx="4419720" cy="5321160"/>
          </a:xfrm>
        </p:grpSpPr>
        <p:pic>
          <p:nvPicPr>
            <p:cNvPr id="177" name="Title 2" descr=""/>
            <p:cNvPicPr/>
            <p:nvPr/>
          </p:nvPicPr>
          <p:blipFill>
            <a:blip r:embed="rId2"/>
            <a:stretch/>
          </p:blipFill>
          <p:spPr>
            <a:xfrm>
              <a:off x="360360" y="360360"/>
              <a:ext cx="4419720" cy="53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0360" y="360360"/>
              <a:ext cx="4416480" cy="53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180000" tIns="0" bIns="180000" anchor="b">
              <a:noAutofit/>
            </a:bodyPr>
            <a:p>
              <a:pPr algn="r">
                <a:lnSpc>
                  <a:spcPts val="4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4500" spc="-1" strike="noStrike">
                  <a:solidFill>
                    <a:srgbClr val="000000"/>
                  </a:solidFill>
                  <a:latin typeface="Rockwell"/>
                </a:rPr>
                <a:t>Luggage Sets</a:t>
              </a:r>
              <a:endParaRPr b="0" lang="en-US" sz="45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79" name="Subtitle 3"/>
          <p:cNvGrpSpPr/>
          <p:nvPr/>
        </p:nvGrpSpPr>
        <p:grpSpPr>
          <a:xfrm>
            <a:off x="360360" y="5681520"/>
            <a:ext cx="4424400" cy="822600"/>
            <a:chOff x="360360" y="5681520"/>
            <a:chExt cx="4424400" cy="822600"/>
          </a:xfrm>
        </p:grpSpPr>
        <p:pic>
          <p:nvPicPr>
            <p:cNvPr id="180" name="Subtitle 3" descr=""/>
            <p:cNvPicPr/>
            <p:nvPr/>
          </p:nvPicPr>
          <p:blipFill>
            <a:blip r:embed="rId3"/>
            <a:stretch/>
          </p:blipFill>
          <p:spPr>
            <a:xfrm>
              <a:off x="360360" y="5681520"/>
              <a:ext cx="442440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60360" y="5681520"/>
              <a:ext cx="441648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44000" bIns="0" anchor="t">
              <a:noAutofit/>
            </a:bodyPr>
            <a:p>
              <a:pPr algn="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404040"/>
                  </a:solidFill>
                  <a:latin typeface="Calibri Light"/>
                </a:rPr>
                <a:t>https://travel-point.org</a:t>
              </a: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98BA-1014-4E26-86B3-9FC752B0754A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570720" y="1290600"/>
            <a:ext cx="3944880" cy="39466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1670040" y="2479680"/>
            <a:ext cx="444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Do you often travel and need your things to be safe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7E95-A315-4FC8-8F3A-B0306F9B2F08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384200" y="1098720"/>
            <a:ext cx="3765600" cy="48686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5386320" y="284148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oday we have come up with the solution and telling you about the top luggage sets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5AB2-63E5-42EB-9A91-164EA847FBED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635880" y="1222200"/>
            <a:ext cx="3908160" cy="39751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607760" y="320976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We offer quality to our bag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6623-056A-40C2-87AB-479D38E1EB3E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044720" y="1301760"/>
            <a:ext cx="4498920" cy="4653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5543640" y="293544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In our blog you will be able to find the suitable luggage sets for you and those will be of great quality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3F48-E2EB-4C57-B6AD-84153E37AC2A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900080" y="2630520"/>
            <a:ext cx="426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ompare products and make a final selection decis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6811920" y="166680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r more details visit site: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TextBox 7">
            <a:hlinkClick r:id="rId1"/>
          </p:cNvPr>
          <p:cNvSpPr/>
          <p:nvPr/>
        </p:nvSpPr>
        <p:spPr>
          <a:xfrm>
            <a:off x="1547640" y="2459160"/>
            <a:ext cx="90964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56aff"/>
                </a:solidFill>
                <a:uFillTx/>
                <a:latin typeface="Calibri Light"/>
                <a:hlinkClick r:id="rId2"/>
              </a:rPr>
              <a:t>https://travel-point.or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99EC-5110-45C4-9757-CB0085A20EA0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3T11:59:53Z</dcterms:created>
  <dc:creator/>
  <dc:description/>
  <dc:language>en-US</dc:language>
  <cp:lastModifiedBy/>
  <dcterms:modified xsi:type="dcterms:W3CDTF">2018-12-23T12:32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