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0.wmf" ContentType="image/x-wmf"/>
  <Override PartName="/ppt/media/image48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wmf" ContentType="image/x-wmf"/>
  <Override PartName="/ppt/media/image39.wmf" ContentType="image/x-wmf"/>
  <Override PartName="/ppt/media/image1.png" ContentType="image/png"/>
  <Override PartName="/ppt/media/image31.png" ContentType="image/png"/>
  <Override PartName="/ppt/media/image29.wmf" ContentType="image/x-wmf"/>
  <Override PartName="/ppt/media/image14.wmf" ContentType="image/x-wmf"/>
  <Override PartName="/ppt/media/image15.png" ContentType="image/png"/>
  <Override PartName="/ppt/media/image55.wmf" ContentType="image/x-wmf"/>
  <Override PartName="/ppt/media/image20.wmf" ContentType="image/x-wmf"/>
  <Override PartName="/ppt/media/image57.wmf" ContentType="image/x-wmf"/>
  <Override PartName="/ppt/media/image5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6.wmf" ContentType="image/x-wmf"/>
  <Override PartName="/ppt/media/image65.wmf" ContentType="image/x-wmf"/>
  <Override PartName="/ppt/media/image25.png" ContentType="image/png"/>
  <Override PartName="/ppt/media/image3.wmf" ContentType="image/x-wmf"/>
  <Override PartName="/ppt/media/image33.wmf" ContentType="image/x-wmf"/>
  <Override PartName="/ppt/media/image26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60.wmf" ContentType="image/x-wmf"/>
  <Override PartName="/ppt/media/image61.wmf" ContentType="image/x-wmf"/>
  <Override PartName="/ppt/media/image67.png" ContentType="image/png"/>
  <Override PartName="/ppt/media/image24.wmf" ContentType="image/x-wmf"/>
  <Override PartName="/ppt/media/image35.wmf" ContentType="image/x-wmf"/>
  <Override PartName="/ppt/media/image2.png" ContentType="image/png"/>
  <Override PartName="/ppt/media/image32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5.wmf" ContentType="image/x-wmf"/>
  <Override PartName="/ppt/media/image17.wmf" ContentType="image/x-wmf"/>
  <Override PartName="/ppt/media/image42.wmf" ContentType="image/x-wmf"/>
  <Override PartName="/ppt/media/image13.wmf" ContentType="image/x-wmf"/>
  <Override PartName="/ppt/media/image52.png" ContentType="image/png"/>
  <Override PartName="/ppt/media/image30.wmf" ContentType="image/x-wmf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0E5-21E3-4F5B-B840-94D45AFE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EB8-7CE2-4B5C-9069-5B0E48DF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B94-4597-4E41-88EB-52C111F9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80F-0722-4F5B-81BF-7A5D12E3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9F6-AFD9-4C77-BB81-C28ED691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2B5-667C-4710-AEFE-05164BD9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DD6-845F-406D-BCD6-D9364E6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61D-6F50-4CEE-A1B3-E4AB179D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26F-DCFC-4092-975B-3282F2D6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3E6-71C3-4E91-90D9-30AD1BBB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712-0B60-46D6-BB50-D8939B3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3A8-9C7F-4EB3-8B4F-F543D21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D069-F99F-49D8-9596-F1792B3FAC1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11280" y="127080"/>
            <a:ext cx="4781520" cy="64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627280" y="4508640"/>
            <a:ext cx="468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éni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mier anné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uxième 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15416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atique des so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13480" y="189000"/>
            <a:ext cx="33764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621400" cy="4362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3411360"/>
            <a:ext cx="4911840" cy="3186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lex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38240" y="1347840"/>
            <a:ext cx="3641760" cy="136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0560" y="5276880"/>
                <a:ext cx="590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t d’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480" y="1154160"/>
            <a:ext cx="9042120" cy="4165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88000" y="3668760"/>
            <a:ext cx="3851280" cy="3189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314440" y="502776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quations d’equi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isaillemen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formule de Jourask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2994120"/>
            <a:ext cx="4251240" cy="2849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373120" cy="611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932360" y="2695680"/>
            <a:ext cx="37069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064120" cy="2441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779560" cy="197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728800" cy="1284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27080" y="4857840"/>
            <a:ext cx="89089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860720" cy="368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8000" y="3997440"/>
            <a:ext cx="88866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297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8000" y="765000"/>
            <a:ext cx="115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moment statique et d’iner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865160" cy="1119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3946680" cy="1144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27669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475000" cy="1119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76720" y="1197000"/>
            <a:ext cx="1366560" cy="576360"/>
          </a:xfrm>
          <a:prstGeom prst="rightArrow">
            <a:avLst>
              <a:gd name="adj1" fmla="val 50000"/>
              <a:gd name="adj2" fmla="val 592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720" y="6922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2830320" cy="1093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903840" y="305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99640" y="2997360"/>
            <a:ext cx="55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= 0 si x ou y axes de symé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35640" y="260280"/>
            <a:ext cx="2322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 si on a des axes généri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962600" cy="4260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924360" y="4724280"/>
            <a:ext cx="48607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2920" y="477720"/>
            <a:ext cx="8893080" cy="2279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16000" y="3141720"/>
            <a:ext cx="88200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28600" y="189000"/>
            <a:ext cx="69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Rappels de Statique de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71160" y="364500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ces en equilibre appliqué à un cor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265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4005360"/>
            <a:ext cx="6624720" cy="176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50840" y="595008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ces internes à un sol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96760" y="1157400"/>
            <a:ext cx="73486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9200" cy="144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44360" y="2997360"/>
            <a:ext cx="8820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ment d’inertie de quelque figure géomét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1160" y="150012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ENTION AUX AXES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08200" y="1916280"/>
            <a:ext cx="2830320" cy="3001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58920" y="4944960"/>
            <a:ext cx="1655640" cy="94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281240" y="5881680"/>
            <a:ext cx="1560240" cy="863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03320" y="523080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32840" y="6132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522680" y="1951200"/>
            <a:ext cx="3794400" cy="3369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43200" y="529596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si j’utili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318280" y="5608800"/>
            <a:ext cx="2160360" cy="439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744080" y="6165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5448240" y="6005520"/>
            <a:ext cx="194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26200" y="31989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ca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97200" y="3629160"/>
            <a:ext cx="841320" cy="86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3440" y="1268280"/>
            <a:ext cx="1150920" cy="51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flipH="1">
            <a:off x="2792160" y="1146240"/>
            <a:ext cx="1174680" cy="11192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360" y="620640"/>
            <a:ext cx="1074960" cy="1129320"/>
            <a:chOff x="36360" y="620640"/>
            <a:chExt cx="1074960" cy="1129320"/>
          </a:xfrm>
        </p:grpSpPr>
        <p:sp>
          <p:nvSpPr>
            <p:cNvPr id="55" name=""/>
            <p:cNvSpPr/>
            <p:nvPr/>
          </p:nvSpPr>
          <p:spPr>
            <a:xfrm flipV="1">
              <a:off x="320760" y="7408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760" y="14601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8360" y="14126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60" y="6206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739960" y="4727520"/>
            <a:ext cx="75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θ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57960" y="43498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1760" y="46418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9920" y="49039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3440" y="2006640"/>
            <a:ext cx="7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1440" y="1611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5240" y="1920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4720" y="1874880"/>
            <a:ext cx="7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6880" y="17892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9640" y="6922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9960" y="538200"/>
            <a:ext cx="19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vot – gli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ou appu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25600" y="3610080"/>
            <a:ext cx="877680" cy="1081080"/>
            <a:chOff x="525600" y="3610080"/>
            <a:chExt cx="877680" cy="1081080"/>
          </a:xfrm>
        </p:grpSpPr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525600" y="3610080"/>
              <a:ext cx="5760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995400" y="391320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1640" y="4152960"/>
              <a:ext cx="431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17480" y="4802040"/>
            <a:ext cx="75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θ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80" y="4424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9640" y="4697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3141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7480" y="16344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ymboles des liaisons et degrés de liberté éli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99320" y="1125360"/>
            <a:ext cx="36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tructure iso, iper, ipostatiq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23520" y="2787480"/>
            <a:ext cx="37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iso, solution possible a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quations d’equi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4040" y="3560760"/>
            <a:ext cx="381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iper, solution possible a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imination d’un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4400" y="4349880"/>
            <a:ext cx="39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ipo, aucun solution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ructure n’est pas st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8880" y="152244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n –  DDL_ext- DDL_int * (m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13440" y="188280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 poutres, m interconnec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DL élimi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19520" y="2637000"/>
            <a:ext cx="11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2 ré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2 for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3160" y="5445000"/>
            <a:ext cx="117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2 ré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1 force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1 mo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2240" y="5589720"/>
            <a:ext cx="117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3 ré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2 forc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1 mo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8240" y="261792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1 ré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1 for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3800" y="5229360"/>
            <a:ext cx="343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 est la multiplicité du liais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de poutres liés au liai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80" y="5842080"/>
            <a:ext cx="6078240" cy="101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2879640" cy="178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2292480"/>
            <a:ext cx="3456000" cy="99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8000" y="1928880"/>
            <a:ext cx="2160360" cy="164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6920" y="4428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lcul d’une structure avec actions intern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00" y="333360"/>
            <a:ext cx="862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er si la structure est ipo, iper, isostatique. Choisir la method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sol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On trouve le reactions des liai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Couper chaque poutre pour trouver les forces inter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) Rapresenter les actions inter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637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90360" y="3716280"/>
            <a:ext cx="5418360" cy="2043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14360" y="1989000"/>
            <a:ext cx="504720" cy="504720"/>
            <a:chOff x="414360" y="1989000"/>
            <a:chExt cx="504720" cy="504720"/>
          </a:xfrm>
        </p:grpSpPr>
        <p:sp>
          <p:nvSpPr>
            <p:cNvPr id="99" name=""/>
            <p:cNvSpPr/>
            <p:nvPr/>
          </p:nvSpPr>
          <p:spPr>
            <a:xfrm>
              <a:off x="414360" y="1989000"/>
              <a:ext cx="50472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9840" y="2055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282920" y="1989000"/>
            <a:ext cx="505080" cy="504720"/>
            <a:chOff x="4282920" y="1989000"/>
            <a:chExt cx="505080" cy="504720"/>
          </a:xfrm>
        </p:grpSpPr>
        <p:sp>
          <p:nvSpPr>
            <p:cNvPr id="102" name=""/>
            <p:cNvSpPr/>
            <p:nvPr/>
          </p:nvSpPr>
          <p:spPr>
            <a:xfrm>
              <a:off x="4282920" y="198900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89120" y="2055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11280" y="3787920"/>
            <a:ext cx="504720" cy="504720"/>
            <a:chOff x="611280" y="3787920"/>
            <a:chExt cx="504720" cy="504720"/>
          </a:xfrm>
        </p:grpSpPr>
        <p:sp>
          <p:nvSpPr>
            <p:cNvPr id="105" name=""/>
            <p:cNvSpPr/>
            <p:nvPr/>
          </p:nvSpPr>
          <p:spPr>
            <a:xfrm>
              <a:off x="611280" y="3787920"/>
              <a:ext cx="50472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760" y="3854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529240" y="3716280"/>
            <a:ext cx="2859120" cy="106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649840" y="5013360"/>
            <a:ext cx="2954520" cy="98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400000">
            <a:off x="6839280" y="490428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84720" y="6164280"/>
            <a:ext cx="505080" cy="504720"/>
            <a:chOff x="6084720" y="6164280"/>
            <a:chExt cx="505080" cy="504720"/>
          </a:xfrm>
        </p:grpSpPr>
        <p:sp>
          <p:nvSpPr>
            <p:cNvPr id="111" name=""/>
            <p:cNvSpPr/>
            <p:nvPr/>
          </p:nvSpPr>
          <p:spPr>
            <a:xfrm>
              <a:off x="6084720" y="616428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90920" y="6230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0720" y="11592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utre exemple avec charge distribu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8000" y="649440"/>
            <a:ext cx="2087640" cy="174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2795400" cy="1973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35640" y="357336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08720" y="1001880"/>
            <a:ext cx="3600360" cy="112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5041800" cy="2046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940360" y="3213000"/>
            <a:ext cx="3024360" cy="1195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780000" y="5079960"/>
            <a:ext cx="5327640" cy="151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11280" y="5229360"/>
            <a:ext cx="2449440" cy="124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68360" y="1457280"/>
            <a:ext cx="505080" cy="287280"/>
          </a:xfrm>
          <a:prstGeom prst="rightArrow">
            <a:avLst>
              <a:gd name="adj1" fmla="val 50000"/>
              <a:gd name="adj2" fmla="val 439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5662440"/>
            <a:ext cx="505080" cy="287640"/>
          </a:xfrm>
          <a:prstGeom prst="rightArrow">
            <a:avLst>
              <a:gd name="adj1" fmla="val 50000"/>
              <a:gd name="adj2" fmla="val 43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8000" y="115920"/>
            <a:ext cx="504720" cy="504720"/>
            <a:chOff x="108000" y="115920"/>
            <a:chExt cx="504720" cy="504720"/>
          </a:xfrm>
        </p:grpSpPr>
        <p:sp>
          <p:nvSpPr>
            <p:cNvPr id="125" name=""/>
            <p:cNvSpPr/>
            <p:nvPr/>
          </p:nvSpPr>
          <p:spPr>
            <a:xfrm>
              <a:off x="108000" y="115920"/>
              <a:ext cx="50472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480" y="182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132000" y="763560"/>
            <a:ext cx="505080" cy="504720"/>
            <a:chOff x="3132000" y="763560"/>
            <a:chExt cx="505080" cy="504720"/>
          </a:xfrm>
        </p:grpSpPr>
        <p:sp>
          <p:nvSpPr>
            <p:cNvPr id="128" name=""/>
            <p:cNvSpPr/>
            <p:nvPr/>
          </p:nvSpPr>
          <p:spPr>
            <a:xfrm>
              <a:off x="3132000" y="76356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38200" y="830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6200" y="3068640"/>
            <a:ext cx="505080" cy="504720"/>
            <a:chOff x="106200" y="3068640"/>
            <a:chExt cx="505080" cy="504720"/>
          </a:xfrm>
        </p:grpSpPr>
        <p:sp>
          <p:nvSpPr>
            <p:cNvPr id="131" name=""/>
            <p:cNvSpPr/>
            <p:nvPr/>
          </p:nvSpPr>
          <p:spPr>
            <a:xfrm>
              <a:off x="106200" y="306864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400" y="3135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6200" y="5589720"/>
            <a:ext cx="505080" cy="504720"/>
            <a:chOff x="106200" y="5589720"/>
            <a:chExt cx="505080" cy="504720"/>
          </a:xfrm>
        </p:grpSpPr>
        <p:sp>
          <p:nvSpPr>
            <p:cNvPr id="134" name=""/>
            <p:cNvSpPr/>
            <p:nvPr/>
          </p:nvSpPr>
          <p:spPr>
            <a:xfrm>
              <a:off x="106200" y="558972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2400" y="565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marche pour le calcule des réactions externes dans les systèmes de pou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aluer s’il s’agit d’un système ipo,iso ou hyper-statique (formule slid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bstituer les réactions externes avec les forces correspondantes (réactions slid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er les réactions avec les équations d’équilib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3 équations de la structure en en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struct.partielle) = 0  (le pivot ne transmet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 l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on sépare la structure dans un liaison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on écrit les équations d’équilibre (slide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59920" y="1159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equation de la ligne élas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2952720" cy="2138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771640" y="981000"/>
            <a:ext cx="6372360" cy="878040"/>
            <a:chOff x="2771640" y="981000"/>
            <a:chExt cx="6372360" cy="87804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2771640" y="981000"/>
              <a:ext cx="63723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663440" y="981000"/>
              <a:ext cx="10818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3440" y="1052280"/>
              <a:ext cx="947520" cy="648000"/>
            </a:xfrm>
            <a:prstGeom prst="rightArrow">
              <a:avLst>
                <a:gd name="adj1" fmla="val 50000"/>
                <a:gd name="adj2" fmla="val 3655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68360" y="2492280"/>
            <a:ext cx="4557600" cy="432000"/>
            <a:chOff x="2268360" y="2492280"/>
            <a:chExt cx="4557600" cy="43200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2268360" y="2509920"/>
              <a:ext cx="450504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304880" y="256392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8880" y="2492280"/>
              <a:ext cx="453708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68000" y="4103640"/>
            <a:ext cx="826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ypothe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rés la deformation les sections sont encore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tites de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i de Hooke v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138560" y="5589720"/>
            <a:ext cx="115416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17080" cy="3554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9000" y="1159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n considere une poutre en flex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576520" cy="585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21120" y="468648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778200" y="4292640"/>
            <a:ext cx="1154160" cy="1093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83120" y="515628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ur petits deformations la courbure 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531120" y="4869000"/>
            <a:ext cx="171288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4200" y="189000"/>
            <a:ext cx="4771800" cy="444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760" y="26028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 la deflexion est pet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1257120" cy="33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71440" y="1344600"/>
            <a:ext cx="1204920" cy="355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1268280"/>
            <a:ext cx="2271960" cy="419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108000" y="1916280"/>
            <a:ext cx="1509840" cy="992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19280" y="227664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268360" y="1989000"/>
            <a:ext cx="196704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5" name=""/>
          <p:cNvGrpSpPr/>
          <p:nvPr/>
        </p:nvGrpSpPr>
        <p:grpSpPr>
          <a:xfrm>
            <a:off x="141120" y="3792600"/>
            <a:ext cx="4505040" cy="414360"/>
            <a:chOff x="141120" y="3792600"/>
            <a:chExt cx="4505040" cy="41436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41120" y="3792600"/>
              <a:ext cx="450504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177640" y="384660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2560" y="33577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1840" y="4503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49200" y="4346640"/>
                <a:ext cx="2351160" cy="23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2841840" y="510372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res formulation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ligne éla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27:49Z</dcterms:created>
  <dc:creator>Andrea</dc:creator>
  <dc:description/>
  <dc:language>en-US</dc:language>
  <cp:lastModifiedBy>Andrea</cp:lastModifiedBy>
  <dcterms:modified xsi:type="dcterms:W3CDTF">2015-03-17T13:20:16Z</dcterms:modified>
  <cp:revision>20</cp:revision>
  <dc:subject/>
  <dc:title>Slide 1</dc:title>
</cp:coreProperties>
</file>