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745-06B7-451D-99D8-9713A6AB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B6E-467F-4FC7-8D1C-667DDA5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20F-7636-4290-8F83-70E67A3C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C95-95F4-41A2-AF43-1667C59F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1BA-5383-4D67-8F9F-AA8B1C0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E92-6DC8-413D-90F0-008757E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4A0-15C0-4DE4-94E1-CFEA61D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426-364B-4310-926E-4BB5CF34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006-A2E3-4308-867F-156188E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C22-C56A-4A94-A6D3-1417116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392-4FB5-44AD-93E0-01E4F91F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79E-0DC0-48C5-BB60-60A899B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0001D-CBE0-4672-8812-C9CB8E9F2C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57BA8-AB2D-4BE5-8CB5-8611208AD90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3:29Z</dcterms:created>
  <dc:creator>최봉수</dc:creator>
  <dc:description/>
  <dc:language>en-US</dc:language>
  <cp:lastModifiedBy>맛있다 군만두</cp:lastModifiedBy>
  <dcterms:modified xsi:type="dcterms:W3CDTF">2024-10-01T02:44:07Z</dcterms:modified>
  <cp:revision>3</cp:revision>
  <dc:subject/>
  <dc:title>슬라이드 1</dc:title>
</cp:coreProperties>
</file>