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A199-0A23-43FF-B03E-AD6E689D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C05-239A-438D-A35D-AC61FA96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173-DFA7-48AC-A00A-971A4EFD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F85A-CE46-4553-AAE9-AA40A855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348-B2A2-487E-9510-93BA06B3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582-0CBD-4CB5-8D9E-5E4A6611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0A6A-23D5-41A3-B115-DDF6513A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073F-0033-47F9-AB9F-43441D3D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906-C2A2-4FB8-9021-FF7AD21C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C0F-EB86-416B-8C3F-0A4E3021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C67C-944B-49CC-BCCD-253EFADE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3F3-EDF2-407C-8624-21E4ADF5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DCD53D-F764-43AE-AE2F-8F21512A923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9E920-9DC9-40B2-9FA5-7CE17C45B630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4:43:29Z</dcterms:created>
  <dc:creator>최봉수</dc:creator>
  <dc:description/>
  <dc:language>en-US</dc:language>
  <cp:lastModifiedBy>맛있다 군만두</cp:lastModifiedBy>
  <dcterms:modified xsi:type="dcterms:W3CDTF">2024-10-01T02:44:07Z</dcterms:modified>
  <cp:revision>3</cp:revision>
  <dc:subject/>
  <dc:title>슬라이드 1</dc:title>
</cp:coreProperties>
</file>