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E2EC-0D3A-4021-8522-54ADC15F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6B6-DE64-4810-85AB-83A3520D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B69-F4A8-4296-B49E-CAE73A9E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C370-609D-433B-A25F-0E95774E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67A5-BB31-4A6C-A573-6DBDFB0D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219-CEB6-4A93-9EB6-27FBED0F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DE3A-F3A6-4F34-9461-49DBB5E1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160E-AE88-4733-8F3C-E2B6719D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C73B-1E94-4477-A80C-CB3C22ED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C91C-133C-4F5F-A454-6AECBF17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D138-9850-4DFC-B2B0-42B88176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AC49-C2F1-418D-830D-F442445D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9747-5810-42D5-82F4-BD9A3437F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001960" y="0"/>
            <a:ext cx="514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162160" y="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001960" y="0"/>
            <a:ext cx="514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92400" y="0"/>
            <a:ext cx="475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74960" y="0"/>
            <a:ext cx="519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192400" y="0"/>
            <a:ext cx="475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001960" y="0"/>
            <a:ext cx="514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58920" y="0"/>
            <a:ext cx="482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01960" y="0"/>
            <a:ext cx="514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17:54:27Z</dcterms:created>
  <dc:creator>MAITHAM</dc:creator>
  <dc:description/>
  <dc:language>en-US</dc:language>
  <cp:lastModifiedBy>MAITHAM</cp:lastModifiedBy>
  <dcterms:modified xsi:type="dcterms:W3CDTF">2004-08-14T17:57:40Z</dcterms:modified>
  <cp:revision>6</cp:revision>
  <dc:subject/>
  <dc:title>الشريحة 1</dc:title>
</cp:coreProperties>
</file>