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5BB-F778-4783-ABD4-9D77A6C3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2A2-74BF-4AE8-80DD-7F6C5F5B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4FF-B40B-4A40-A27D-A4CF69B0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D08-FD97-4D70-83CC-9C8BF4CD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525-171B-47C0-9954-6BB44467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0B5-DE04-4151-A889-762F3E43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107-221E-47D9-BB64-9BDA47BD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52E-9105-4AEE-B4EE-DDD70C60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80A-F52A-4AD0-A97A-D2420E28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8C1-0DF5-42C2-B06C-64D41B3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7B8-01E2-4591-8496-8C4DC62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6C1-8C25-4C70-8DE0-F873229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B6A-13CD-4416-B80E-94E70DEB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6216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24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2400" y="0"/>
            <a:ext cx="475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5892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17:54:27Z</dcterms:created>
  <dc:creator>MAITHAM</dc:creator>
  <dc:description/>
  <dc:language>en-US</dc:language>
  <cp:lastModifiedBy>MAITHAM</cp:lastModifiedBy>
  <dcterms:modified xsi:type="dcterms:W3CDTF">2004-08-14T17:57:40Z</dcterms:modified>
  <cp:revision>6</cp:revision>
  <dc:subject/>
  <dc:title>الشريحة 1</dc:title>
</cp:coreProperties>
</file>